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Shape 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5" name="Shape 32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Shape 35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Shape 43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Shape 46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Shape 49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Shape 54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Shape 11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Shape 55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Shape 14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Shape 1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6" name="Shape 21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Shape 24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Shape 2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1FE-7A16-4FDC-9497-17FA0B6C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14A-5DD0-4689-9FDF-FE67835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F5C-6DFC-4AFF-B2E6-F1B898BF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C6D-B997-49C9-A09F-538E41E2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AD6-F6D4-4891-975B-2EB2A05C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DED-E414-4F54-97B0-DBD81DC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3FB-F80C-425C-A41C-CBFD99C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E9C-8E47-48DD-80D1-5DB720B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A64-0288-40CF-BD7C-4AC2F59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07B-D858-4323-8CDE-C804332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3F9-1B0F-4372-9B7D-4C54CAD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4BD-E98E-49CD-BDCF-BE04AEC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6603840" y="185760"/>
            <a:ext cx="216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 Display mat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The Google Display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7016760" y="0"/>
            <a:ext cx="165096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20"/>
          <p:cNvSpPr/>
          <p:nvPr/>
        </p:nvSpPr>
        <p:spPr>
          <a:xfrm>
            <a:off x="7016760" y="0"/>
            <a:ext cx="165096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1"/>
          <p:cNvSpPr/>
          <p:nvPr/>
        </p:nvSpPr>
        <p:spPr>
          <a:xfrm>
            <a:off x="6603840" y="185760"/>
            <a:ext cx="216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 Display mat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The Google Display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400" y="1015560"/>
            <a:ext cx="83055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e Google </a:t>
            </a:r>
            <a:br>
              <a:rPr sz="6200"/>
            </a:b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isplay Network.</a:t>
            </a:r>
            <a:br>
              <a:rPr sz="6200"/>
            </a:br>
            <a:r>
              <a:rPr b="0" lang="en-US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 Display Mat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2400" y="1025280"/>
            <a:ext cx="75294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textual Targ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hape 301"/>
          <p:cNvSpPr/>
          <p:nvPr/>
        </p:nvSpPr>
        <p:spPr>
          <a:xfrm>
            <a:off x="473040" y="2362320"/>
            <a:ext cx="61200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wit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opic targeting – choose from over 1700 site categories already organised for you by 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Keyword contextual targeting – choose keywords and Google will find the best sites for your display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Placement targeting – manually select the right placements for the campa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hape 302"/>
          <p:cNvSpPr/>
          <p:nvPr/>
        </p:nvSpPr>
        <p:spPr>
          <a:xfrm>
            <a:off x="6531120" y="4124160"/>
            <a:ext cx="1423800" cy="142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hape 303"/>
          <p:cNvCxnSpPr>
            <a:stCxn id="299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300" name="Shape 305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hape 306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hape 307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hape 308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hape 309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hape 310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hape 311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312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hape 313"/>
          <p:cNvCxnSpPr/>
          <p:nvPr/>
        </p:nvCxnSpPr>
        <p:spPr>
          <a:xfrm>
            <a:off x="4084560" y="6076440"/>
            <a:ext cx="316800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09" name="Shape 314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315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316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317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318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319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hape 304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320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hape 321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hape 322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hape 323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hape 324"/>
          <p:cNvSpPr/>
          <p:nvPr/>
        </p:nvSpPr>
        <p:spPr>
          <a:xfrm>
            <a:off x="679140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2760" y="1025280"/>
            <a:ext cx="7610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udience Targ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hape 331"/>
          <p:cNvSpPr/>
          <p:nvPr/>
        </p:nvSpPr>
        <p:spPr>
          <a:xfrm>
            <a:off x="473040" y="2362320"/>
            <a:ext cx="61200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people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terest category marketing – show ads to people based on what they l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emographic – select your audience based on their gender and 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marketing – reach people who visited your site but didn’t con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imilar users – Google’s look alike technology finds users with browsing habits similar to people on your remarketing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hape 332"/>
          <p:cNvSpPr/>
          <p:nvPr/>
        </p:nvSpPr>
        <p:spPr>
          <a:xfrm>
            <a:off x="6438960" y="4237200"/>
            <a:ext cx="1498680" cy="139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hape 333"/>
          <p:cNvCxnSpPr>
            <a:stCxn id="324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325" name="Shape 335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hape 336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337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hape 338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hape 339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hape 340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hape 341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hape 342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hape 343"/>
          <p:cNvCxnSpPr/>
          <p:nvPr/>
        </p:nvCxnSpPr>
        <p:spPr>
          <a:xfrm>
            <a:off x="4084560" y="6076440"/>
            <a:ext cx="316800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34" name="Shape 344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hape 345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hape 346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hape 347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hape 348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hape 349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hape 334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hape 350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hape 351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hape 352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hape 353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hape 354"/>
          <p:cNvSpPr/>
          <p:nvPr/>
        </p:nvSpPr>
        <p:spPr>
          <a:xfrm>
            <a:off x="679140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hape 360"/>
          <p:cNvSpPr/>
          <p:nvPr/>
        </p:nvSpPr>
        <p:spPr>
          <a:xfrm>
            <a:off x="482760" y="1025640"/>
            <a:ext cx="6872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d sizes are available </a:t>
            </a:r>
            <a:br>
              <a:rPr sz="3600"/>
            </a:b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o advertis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Shape 361"/>
          <p:cNvGrpSpPr/>
          <p:nvPr/>
        </p:nvGrpSpPr>
        <p:grpSpPr>
          <a:xfrm>
            <a:off x="676440" y="2266920"/>
            <a:ext cx="7578720" cy="3416760"/>
            <a:chOff x="676440" y="2266920"/>
            <a:chExt cx="7578720" cy="3416760"/>
          </a:xfrm>
        </p:grpSpPr>
        <p:grpSp>
          <p:nvGrpSpPr>
            <p:cNvPr id="347" name="Shape 362"/>
            <p:cNvGrpSpPr/>
            <p:nvPr/>
          </p:nvGrpSpPr>
          <p:grpSpPr>
            <a:xfrm>
              <a:off x="4534560" y="4112280"/>
              <a:ext cx="1922400" cy="1553760"/>
              <a:chOff x="4534560" y="4112280"/>
              <a:chExt cx="1922400" cy="1553760"/>
            </a:xfrm>
          </p:grpSpPr>
          <p:sp>
            <p:nvSpPr>
              <p:cNvPr id="348" name="Shape 363"/>
              <p:cNvSpPr/>
              <p:nvPr/>
            </p:nvSpPr>
            <p:spPr>
              <a:xfrm>
                <a:off x="4534560" y="4112280"/>
                <a:ext cx="1922400" cy="1553760"/>
              </a:xfrm>
              <a:prstGeom prst="rect">
                <a:avLst/>
              </a:prstGeom>
              <a:solidFill>
                <a:srgbClr val="ff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hape 364"/>
              <p:cNvSpPr/>
              <p:nvPr/>
            </p:nvSpPr>
            <p:spPr>
              <a:xfrm>
                <a:off x="4646880" y="4590360"/>
                <a:ext cx="16790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Large Rectangle 336x280p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Shape 365"/>
            <p:cNvGrpSpPr/>
            <p:nvPr/>
          </p:nvGrpSpPr>
          <p:grpSpPr>
            <a:xfrm>
              <a:off x="6447240" y="2266920"/>
              <a:ext cx="903960" cy="3396240"/>
              <a:chOff x="6447240" y="2266920"/>
              <a:chExt cx="903960" cy="3396240"/>
            </a:xfrm>
          </p:grpSpPr>
          <p:sp>
            <p:nvSpPr>
              <p:cNvPr id="351" name="Shape 366"/>
              <p:cNvSpPr/>
              <p:nvPr/>
            </p:nvSpPr>
            <p:spPr>
              <a:xfrm>
                <a:off x="6575400" y="2266920"/>
                <a:ext cx="640800" cy="3396240"/>
              </a:xfrm>
              <a:prstGeom prst="rect">
                <a:avLst/>
              </a:prstGeom>
              <a:solidFill>
                <a:srgbClr val="ff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hape 367"/>
              <p:cNvSpPr/>
              <p:nvPr/>
            </p:nvSpPr>
            <p:spPr>
              <a:xfrm>
                <a:off x="6447240" y="3387960"/>
                <a:ext cx="903960" cy="97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ky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craper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20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00p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Shape 368"/>
            <p:cNvSpPr/>
            <p:nvPr/>
          </p:nvSpPr>
          <p:spPr>
            <a:xfrm>
              <a:off x="7344000" y="2266920"/>
              <a:ext cx="865080" cy="3396240"/>
            </a:xfrm>
            <a:prstGeom prst="rect">
              <a:avLst/>
            </a:prstGeom>
            <a:solidFill>
              <a:srgbClr val="558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hape 369"/>
            <p:cNvCxnSpPr/>
            <p:nvPr/>
          </p:nvCxnSpPr>
          <p:spPr>
            <a:xfrm flipH="1" flipV="1">
              <a:off x="4534200" y="5664600"/>
              <a:ext cx="193068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55" name="Shape 370"/>
            <p:cNvCxnSpPr/>
            <p:nvPr/>
          </p:nvCxnSpPr>
          <p:spPr>
            <a:xfrm>
              <a:off x="6455160" y="4113000"/>
              <a:ext cx="1080" cy="157104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grpSp>
          <p:nvGrpSpPr>
            <p:cNvPr id="356" name="Shape 371"/>
            <p:cNvGrpSpPr/>
            <p:nvPr/>
          </p:nvGrpSpPr>
          <p:grpSpPr>
            <a:xfrm>
              <a:off x="1208520" y="3697200"/>
              <a:ext cx="1412280" cy="1377720"/>
              <a:chOff x="1208520" y="3697200"/>
              <a:chExt cx="1412280" cy="1377720"/>
            </a:xfrm>
          </p:grpSpPr>
          <p:sp>
            <p:nvSpPr>
              <p:cNvPr id="357" name="Shape 372"/>
              <p:cNvSpPr/>
              <p:nvPr/>
            </p:nvSpPr>
            <p:spPr>
              <a:xfrm>
                <a:off x="1209960" y="3697200"/>
                <a:ext cx="1409760" cy="1377720"/>
              </a:xfrm>
              <a:prstGeom prst="rect">
                <a:avLst/>
              </a:pr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hape 373"/>
              <p:cNvSpPr/>
              <p:nvPr/>
            </p:nvSpPr>
            <p:spPr>
              <a:xfrm>
                <a:off x="1208520" y="4060080"/>
                <a:ext cx="14122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qua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50x250p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Shape 374"/>
            <p:cNvGrpSpPr/>
            <p:nvPr/>
          </p:nvGrpSpPr>
          <p:grpSpPr>
            <a:xfrm>
              <a:off x="4889160" y="2869560"/>
              <a:ext cx="1093320" cy="1137240"/>
              <a:chOff x="4889160" y="2869560"/>
              <a:chExt cx="1093320" cy="1137240"/>
            </a:xfrm>
          </p:grpSpPr>
          <p:sp>
            <p:nvSpPr>
              <p:cNvPr id="360" name="Shape 375"/>
              <p:cNvSpPr/>
              <p:nvPr/>
            </p:nvSpPr>
            <p:spPr>
              <a:xfrm>
                <a:off x="4893120" y="2869560"/>
                <a:ext cx="1089360" cy="1137240"/>
              </a:xfrm>
              <a:prstGeom prst="rect">
                <a:avLst/>
              </a:prstGeom>
              <a:solidFill>
                <a:srgbClr val="558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hape 376"/>
              <p:cNvSpPr/>
              <p:nvPr/>
            </p:nvSpPr>
            <p:spPr>
              <a:xfrm>
                <a:off x="4889160" y="3131280"/>
                <a:ext cx="108972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Squa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00x200p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Shape 377"/>
            <p:cNvGrpSpPr/>
            <p:nvPr/>
          </p:nvGrpSpPr>
          <p:grpSpPr>
            <a:xfrm>
              <a:off x="676440" y="3079800"/>
              <a:ext cx="4107960" cy="512640"/>
              <a:chOff x="676440" y="3079800"/>
              <a:chExt cx="4107960" cy="512640"/>
            </a:xfrm>
          </p:grpSpPr>
          <p:sp>
            <p:nvSpPr>
              <p:cNvPr id="363" name="Shape 378"/>
              <p:cNvSpPr/>
              <p:nvPr/>
            </p:nvSpPr>
            <p:spPr>
              <a:xfrm>
                <a:off x="676440" y="3079800"/>
                <a:ext cx="4101480" cy="512640"/>
              </a:xfrm>
              <a:prstGeom prst="rect">
                <a:avLst/>
              </a:prstGeom>
              <a:solidFill>
                <a:srgbClr val="ff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Shape 379"/>
              <p:cNvSpPr/>
              <p:nvPr/>
            </p:nvSpPr>
            <p:spPr>
              <a:xfrm>
                <a:off x="683640" y="3150360"/>
                <a:ext cx="4100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Leaderboard 728x90p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Shape 380"/>
            <p:cNvGrpSpPr/>
            <p:nvPr/>
          </p:nvGrpSpPr>
          <p:grpSpPr>
            <a:xfrm>
              <a:off x="2749680" y="3696480"/>
              <a:ext cx="1679400" cy="1377720"/>
              <a:chOff x="2749680" y="3696480"/>
              <a:chExt cx="1679400" cy="1377720"/>
            </a:xfrm>
          </p:grpSpPr>
          <p:sp>
            <p:nvSpPr>
              <p:cNvPr id="366" name="Shape 381"/>
              <p:cNvSpPr/>
              <p:nvPr/>
            </p:nvSpPr>
            <p:spPr>
              <a:xfrm>
                <a:off x="2749680" y="3696480"/>
                <a:ext cx="1666440" cy="1377720"/>
              </a:xfrm>
              <a:prstGeom prst="rect">
                <a:avLst/>
              </a:prstGeom>
              <a:solidFill>
                <a:srgbClr val="ff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Shape 382"/>
              <p:cNvSpPr/>
              <p:nvPr/>
            </p:nvSpPr>
            <p:spPr>
              <a:xfrm>
                <a:off x="2750040" y="3924000"/>
                <a:ext cx="16790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edium Rectangle 300x250p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Shape 383"/>
            <p:cNvSpPr/>
            <p:nvPr/>
          </p:nvSpPr>
          <p:spPr>
            <a:xfrm>
              <a:off x="7291800" y="3339360"/>
              <a:ext cx="963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i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ky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craper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0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0p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hape 384"/>
            <p:cNvCxnSpPr/>
            <p:nvPr/>
          </p:nvCxnSpPr>
          <p:spPr>
            <a:xfrm>
              <a:off x="4772520" y="3077640"/>
              <a:ext cx="3600" cy="52920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70" name="Shape 385"/>
            <p:cNvCxnSpPr/>
            <p:nvPr/>
          </p:nvCxnSpPr>
          <p:spPr>
            <a:xfrm flipH="1" flipV="1">
              <a:off x="682560" y="3587400"/>
              <a:ext cx="408600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grpSp>
          <p:nvGrpSpPr>
            <p:cNvPr id="371" name="Shape 386"/>
            <p:cNvGrpSpPr/>
            <p:nvPr/>
          </p:nvGrpSpPr>
          <p:grpSpPr>
            <a:xfrm>
              <a:off x="2354040" y="2599920"/>
              <a:ext cx="2497320" cy="387000"/>
              <a:chOff x="2354040" y="2599920"/>
              <a:chExt cx="2497320" cy="387000"/>
            </a:xfrm>
          </p:grpSpPr>
          <p:sp>
            <p:nvSpPr>
              <p:cNvPr id="372" name="Shape 387"/>
              <p:cNvSpPr/>
              <p:nvPr/>
            </p:nvSpPr>
            <p:spPr>
              <a:xfrm>
                <a:off x="2426760" y="2625480"/>
                <a:ext cx="2337120" cy="297360"/>
              </a:xfrm>
              <a:prstGeom prst="rect">
                <a:avLst/>
              </a:prstGeom>
              <a:solidFill>
                <a:srgbClr val="ff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Shape 388"/>
              <p:cNvSpPr/>
              <p:nvPr/>
            </p:nvSpPr>
            <p:spPr>
              <a:xfrm>
                <a:off x="2354040" y="2599920"/>
                <a:ext cx="249732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Banner 468x60p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4" name="Shape 389"/>
              <p:cNvCxnSpPr/>
              <p:nvPr/>
            </p:nvCxnSpPr>
            <p:spPr>
              <a:xfrm>
                <a:off x="4764240" y="2627640"/>
                <a:ext cx="1080" cy="331200"/>
              </a:xfrm>
              <a:prstGeom prst="straightConnector1">
                <a:avLst/>
              </a:prstGeom>
              <a:ln w="38160">
                <a:solidFill>
                  <a:srgbClr val="7f7f7f"/>
                </a:solidFill>
                <a:miter/>
              </a:ln>
            </p:spPr>
          </p:cxnSp>
          <p:cxnSp>
            <p:nvCxnSpPr>
              <p:cNvPr id="375" name="Shape 390"/>
              <p:cNvCxnSpPr/>
              <p:nvPr/>
            </p:nvCxnSpPr>
            <p:spPr>
              <a:xfrm flipH="1" flipV="1">
                <a:off x="2430720" y="2938320"/>
                <a:ext cx="2351880" cy="1080"/>
              </a:xfrm>
              <a:prstGeom prst="straightConnector1">
                <a:avLst/>
              </a:prstGeom>
              <a:ln w="38160">
                <a:solidFill>
                  <a:srgbClr val="7f7f7f"/>
                </a:solidFill>
                <a:miter/>
              </a:ln>
            </p:spPr>
          </p:cxnSp>
        </p:grpSp>
        <p:cxnSp>
          <p:nvCxnSpPr>
            <p:cNvPr id="376" name="Shape 391"/>
            <p:cNvCxnSpPr/>
            <p:nvPr/>
          </p:nvCxnSpPr>
          <p:spPr>
            <a:xfrm flipH="1" flipV="1">
              <a:off x="4890960" y="4003200"/>
              <a:ext cx="108792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77" name="Shape 392"/>
            <p:cNvCxnSpPr/>
            <p:nvPr/>
          </p:nvCxnSpPr>
          <p:spPr>
            <a:xfrm>
              <a:off x="5979600" y="2868120"/>
              <a:ext cx="1080" cy="11548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78" name="Shape 393"/>
            <p:cNvCxnSpPr/>
            <p:nvPr/>
          </p:nvCxnSpPr>
          <p:spPr>
            <a:xfrm>
              <a:off x="2619720" y="3697200"/>
              <a:ext cx="1080" cy="13924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79" name="Shape 394"/>
            <p:cNvCxnSpPr/>
            <p:nvPr/>
          </p:nvCxnSpPr>
          <p:spPr>
            <a:xfrm flipH="1" flipV="1">
              <a:off x="2747880" y="5070240"/>
              <a:ext cx="168372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0" name="Shape 395"/>
            <p:cNvCxnSpPr/>
            <p:nvPr/>
          </p:nvCxnSpPr>
          <p:spPr>
            <a:xfrm flipH="1" flipV="1">
              <a:off x="1205640" y="5070240"/>
              <a:ext cx="141444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1" name="Shape 396"/>
            <p:cNvCxnSpPr/>
            <p:nvPr/>
          </p:nvCxnSpPr>
          <p:spPr>
            <a:xfrm>
              <a:off x="4415760" y="3697200"/>
              <a:ext cx="1080" cy="13924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2" name="Shape 397"/>
            <p:cNvCxnSpPr/>
            <p:nvPr/>
          </p:nvCxnSpPr>
          <p:spPr>
            <a:xfrm>
              <a:off x="7215120" y="2267640"/>
              <a:ext cx="1080" cy="339552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3" name="Shape 398"/>
            <p:cNvCxnSpPr/>
            <p:nvPr/>
          </p:nvCxnSpPr>
          <p:spPr>
            <a:xfrm flipH="1" flipV="1">
              <a:off x="6571800" y="5664600"/>
              <a:ext cx="65916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4" name="Shape 399"/>
            <p:cNvCxnSpPr/>
            <p:nvPr/>
          </p:nvCxnSpPr>
          <p:spPr>
            <a:xfrm flipH="1" flipV="1">
              <a:off x="7342560" y="5664600"/>
              <a:ext cx="867960" cy="108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  <p:cxnSp>
          <p:nvCxnSpPr>
            <p:cNvPr id="385" name="Shape 400"/>
            <p:cNvCxnSpPr/>
            <p:nvPr/>
          </p:nvCxnSpPr>
          <p:spPr>
            <a:xfrm>
              <a:off x="8194680" y="2267640"/>
              <a:ext cx="1080" cy="3395520"/>
            </a:xfrm>
            <a:prstGeom prst="straightConnector1">
              <a:avLst/>
            </a:prstGeom>
            <a:ln w="38160">
              <a:solidFill>
                <a:srgbClr val="7f7f7f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hape 405"/>
          <p:cNvSpPr/>
          <p:nvPr/>
        </p:nvSpPr>
        <p:spPr>
          <a:xfrm>
            <a:off x="1965240" y="5786280"/>
            <a:ext cx="1193760" cy="71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hape 406"/>
          <p:cNvSpPr/>
          <p:nvPr/>
        </p:nvSpPr>
        <p:spPr>
          <a:xfrm>
            <a:off x="590400" y="5786280"/>
            <a:ext cx="1194120" cy="716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hape 407"/>
          <p:cNvSpPr/>
          <p:nvPr/>
        </p:nvSpPr>
        <p:spPr>
          <a:xfrm>
            <a:off x="473040" y="2386080"/>
            <a:ext cx="712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tandard image (JPG or GI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tandard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ch media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-unit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lick-to-play video 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hape 408"/>
          <p:cNvSpPr/>
          <p:nvPr/>
        </p:nvSpPr>
        <p:spPr>
          <a:xfrm>
            <a:off x="6097680" y="3956040"/>
            <a:ext cx="1990800" cy="14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hape 409"/>
          <p:cNvSpPr/>
          <p:nvPr/>
        </p:nvSpPr>
        <p:spPr>
          <a:xfrm>
            <a:off x="482760" y="1025640"/>
            <a:ext cx="68720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types of ads are available to advertis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hape 410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hape 411"/>
          <p:cNvCxnSpPr>
            <a:stCxn id="393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394" name="Shape 413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hape 414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hape 415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hape 416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hape 417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hape 418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hape 419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hape 420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hape 421"/>
          <p:cNvCxnSpPr/>
          <p:nvPr/>
        </p:nvCxnSpPr>
        <p:spPr>
          <a:xfrm>
            <a:off x="4084560" y="6076440"/>
            <a:ext cx="2448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403" name="Shape 422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423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hape 424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hape 425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hape 426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hape 412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hape 427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428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429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430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2400" y="1025280"/>
            <a:ext cx="84279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can I control my co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437"/>
          <p:cNvSpPr/>
          <p:nvPr/>
        </p:nvSpPr>
        <p:spPr>
          <a:xfrm>
            <a:off x="473040" y="2362320"/>
            <a:ext cx="72280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auction system means you bid for every ad spot, ensuring you pay the most competitive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t most, you’ll only pay 1c more than the minimum necessary to maintain your  position o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438"/>
          <p:cNvSpPr/>
          <p:nvPr/>
        </p:nvSpPr>
        <p:spPr>
          <a:xfrm>
            <a:off x="495360" y="6497640"/>
            <a:ext cx="4584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Google Internal Data. Last updated: July 2012. **XX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hape 439"/>
          <p:cNvCxnSpPr>
            <a:stCxn id="416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417" name="Shape 441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hape 442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hape 443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hape 444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445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hape 446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hape 447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hape 448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hape 449"/>
          <p:cNvCxnSpPr/>
          <p:nvPr/>
        </p:nvCxnSpPr>
        <p:spPr>
          <a:xfrm>
            <a:off x="4084560" y="6076440"/>
            <a:ext cx="3780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426" name="Shape 450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hape 451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hape 452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hape 453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hape 454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hape 455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440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hape 456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hape 457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hape 458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hape 459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hape 460"/>
          <p:cNvSpPr/>
          <p:nvPr/>
        </p:nvSpPr>
        <p:spPr>
          <a:xfrm>
            <a:off x="679140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hape 461"/>
          <p:cNvSpPr/>
          <p:nvPr/>
        </p:nvSpPr>
        <p:spPr>
          <a:xfrm>
            <a:off x="7496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hape 462"/>
          <p:cNvSpPr/>
          <p:nvPr/>
        </p:nvSpPr>
        <p:spPr>
          <a:xfrm>
            <a:off x="6124680" y="4392720"/>
            <a:ext cx="2062080" cy="1082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82400" y="1025280"/>
            <a:ext cx="84279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pricing models are availa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hape 469"/>
          <p:cNvSpPr/>
          <p:nvPr/>
        </p:nvSpPr>
        <p:spPr>
          <a:xfrm>
            <a:off x="473040" y="2362320"/>
            <a:ext cx="68119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29376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PM: </a:t>
            </a: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st-per-thousand i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Only pay whenever your ad app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Use for campaigns aimed at increasing visibility.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rack metrics such as impressions, reach, frequency and search upl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PC: </a:t>
            </a: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st-per-cli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Only pay whenever a user clicks on your ad and visits your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Use for campaigns in which you care about click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rack metrics such as sales, leads and sign 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hape 470"/>
          <p:cNvSpPr/>
          <p:nvPr/>
        </p:nvSpPr>
        <p:spPr>
          <a:xfrm>
            <a:off x="495360" y="6497640"/>
            <a:ext cx="4584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Google Internal Data. Last updated: July 2012. **XX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Shape 471"/>
          <p:cNvCxnSpPr>
            <a:stCxn id="443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444" name="Shape 473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hape 474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hape 475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hape 476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hape 477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hape 478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hape 479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hape 480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Shape 481"/>
          <p:cNvCxnSpPr/>
          <p:nvPr/>
        </p:nvCxnSpPr>
        <p:spPr>
          <a:xfrm>
            <a:off x="4084560" y="6076440"/>
            <a:ext cx="3780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453" name="Shape 482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hape 483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hape 484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hape 485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hape 486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hape 487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hape 472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hape 488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489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490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491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492"/>
          <p:cNvSpPr/>
          <p:nvPr/>
        </p:nvSpPr>
        <p:spPr>
          <a:xfrm>
            <a:off x="679140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493"/>
          <p:cNvSpPr/>
          <p:nvPr/>
        </p:nvSpPr>
        <p:spPr>
          <a:xfrm>
            <a:off x="7496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494"/>
          <p:cNvSpPr/>
          <p:nvPr/>
        </p:nvSpPr>
        <p:spPr>
          <a:xfrm flipH="1">
            <a:off x="6300000" y="4276800"/>
            <a:ext cx="1892520" cy="137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hape 500"/>
          <p:cNvSpPr/>
          <p:nvPr/>
        </p:nvSpPr>
        <p:spPr>
          <a:xfrm>
            <a:off x="482760" y="1025640"/>
            <a:ext cx="84279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GDN helps reach the right cust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501"/>
          <p:cNvSpPr/>
          <p:nvPr/>
        </p:nvSpPr>
        <p:spPr>
          <a:xfrm>
            <a:off x="473040" y="2362320"/>
            <a:ext cx="68119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arget a custom segment base on specific demographics, lifestyle, psychographics an behavior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qualified based on interests and intent to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gage past site visitors with re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502"/>
          <p:cNvSpPr/>
          <p:nvPr/>
        </p:nvSpPr>
        <p:spPr>
          <a:xfrm>
            <a:off x="6496200" y="4505400"/>
            <a:ext cx="1689120" cy="1346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507"/>
          <p:cNvSpPr/>
          <p:nvPr/>
        </p:nvSpPr>
        <p:spPr>
          <a:xfrm>
            <a:off x="482760" y="1025640"/>
            <a:ext cx="84279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GDN helps reach customers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hape 508"/>
          <p:cNvSpPr/>
          <p:nvPr/>
        </p:nvSpPr>
        <p:spPr>
          <a:xfrm>
            <a:off x="473040" y="2362320"/>
            <a:ext cx="68119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Layer contextual targeting on top of audience targeting to reach users in the right mind s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opic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Keyword and contextual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Placement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hape 513"/>
          <p:cNvSpPr/>
          <p:nvPr/>
        </p:nvSpPr>
        <p:spPr>
          <a:xfrm>
            <a:off x="482760" y="1025640"/>
            <a:ext cx="84279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GDN helps reach customers with the right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hape 514"/>
          <p:cNvSpPr/>
          <p:nvPr/>
        </p:nvSpPr>
        <p:spPr>
          <a:xfrm>
            <a:off x="473040" y="2362320"/>
            <a:ext cx="681192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ustomise creative based on the user behavior, interests or demograph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ch media drives user engagement and re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0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3" name="Shape 519"/>
          <p:cNvCxnSpPr>
            <a:stCxn id="474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475" name="Shape 521"/>
          <p:cNvCxnSpPr/>
          <p:nvPr/>
        </p:nvCxnSpPr>
        <p:spPr>
          <a:xfrm flipV="1">
            <a:off x="4064040" y="6069960"/>
            <a:ext cx="4140720" cy="6840"/>
          </a:xfrm>
          <a:prstGeom prst="straightConnector1">
            <a:avLst/>
          </a:prstGeom>
          <a:ln w="34920">
            <a:solidFill>
              <a:srgbClr val="ff6400"/>
            </a:solidFill>
            <a:miter/>
          </a:ln>
        </p:spPr>
      </p:cxn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2760" y="1025280"/>
            <a:ext cx="7610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hape 523"/>
          <p:cNvSpPr/>
          <p:nvPr/>
        </p:nvSpPr>
        <p:spPr>
          <a:xfrm>
            <a:off x="473040" y="2362320"/>
            <a:ext cx="77472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is a highly targeted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form of advertising that helps reach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customers </a:t>
            </a: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t the </a:t>
            </a: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time </a:t>
            </a: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ith the </a:t>
            </a: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hape 524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hape 525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hape 526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527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hape 528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hape 529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hape 530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hape 531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hape 532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533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hape 534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hape 535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hape 536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hape 537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hape 520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hape 538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hape 539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hape 540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541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542"/>
          <p:cNvSpPr/>
          <p:nvPr/>
        </p:nvSpPr>
        <p:spPr>
          <a:xfrm>
            <a:off x="679140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543"/>
          <p:cNvSpPr/>
          <p:nvPr/>
        </p:nvSpPr>
        <p:spPr>
          <a:xfrm>
            <a:off x="7496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544"/>
          <p:cNvSpPr/>
          <p:nvPr/>
        </p:nvSpPr>
        <p:spPr>
          <a:xfrm>
            <a:off x="8188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545"/>
          <p:cNvSpPr/>
          <p:nvPr/>
        </p:nvSpPr>
        <p:spPr>
          <a:xfrm>
            <a:off x="6486480" y="4172040"/>
            <a:ext cx="1612800" cy="148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2400" y="1025280"/>
            <a:ext cx="8213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ge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99"/>
          <p:cNvSpPr/>
          <p:nvPr/>
        </p:nvSpPr>
        <p:spPr>
          <a:xfrm>
            <a:off x="473040" y="2362320"/>
            <a:ext cx="72280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 advertise on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at is the Google Display Netw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ustomer Buying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y the Google Display Netw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hoosing the right targeting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rolling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hape 100"/>
          <p:cNvCxnSpPr/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34" name="Shape 101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2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3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4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105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06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107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108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09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110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11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12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13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14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hape 115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hape 551"/>
          <p:cNvSpPr/>
          <p:nvPr/>
        </p:nvSpPr>
        <p:spPr>
          <a:xfrm>
            <a:off x="503280" y="2297160"/>
            <a:ext cx="662148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Display Advertising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552"/>
          <p:cNvSpPr/>
          <p:nvPr/>
        </p:nvSpPr>
        <p:spPr>
          <a:xfrm>
            <a:off x="460440" y="1000080"/>
            <a:ext cx="3568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2400" y="1025640"/>
            <a:ext cx="665316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is it beneficial to advertise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122"/>
          <p:cNvSpPr/>
          <p:nvPr/>
        </p:nvSpPr>
        <p:spPr>
          <a:xfrm>
            <a:off x="473040" y="2373480"/>
            <a:ext cx="548964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reaches customers by placing ads across millions of publisher sites in addition to YouTube and G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ustomers consider, evaluate and advocate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95% of time online is spent on content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hape 123"/>
          <p:cNvCxnSpPr>
            <a:stCxn id="152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53" name="Shape 125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26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27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28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29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0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31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32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hape 133"/>
          <p:cNvCxnSpPr/>
          <p:nvPr/>
        </p:nvCxnSpPr>
        <p:spPr>
          <a:xfrm>
            <a:off x="4084560" y="6076440"/>
            <a:ext cx="432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62" name="Shape 134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135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136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137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38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39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hape 124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40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1"/>
          <p:cNvSpPr/>
          <p:nvPr/>
        </p:nvSpPr>
        <p:spPr>
          <a:xfrm>
            <a:off x="6281640" y="3819600"/>
            <a:ext cx="1805040" cy="18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2400" y="1025280"/>
            <a:ext cx="82134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is the Google Display Net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48"/>
          <p:cNvSpPr/>
          <p:nvPr/>
        </p:nvSpPr>
        <p:spPr>
          <a:xfrm>
            <a:off x="473040" y="2386080"/>
            <a:ext cx="72280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(GDN) is a network of websites with advertising space where you can place your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uses precise targeting to reach engaged audiences -  this delivers better results for advert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’s a simple, cost-effective way to advertise on millions of high-quality news pages, topic-specific websites, video sites and b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hape 149"/>
          <p:cNvCxnSpPr>
            <a:stCxn id="173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74" name="Shape 151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hape 152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hape 153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54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55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56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hape 157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158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hape 159"/>
          <p:cNvCxnSpPr/>
          <p:nvPr/>
        </p:nvCxnSpPr>
        <p:spPr>
          <a:xfrm>
            <a:off x="4084560" y="6076440"/>
            <a:ext cx="1008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83" name="Shape 160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1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2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63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64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hape 165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0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66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67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hape 173"/>
          <p:cNvSpPr/>
          <p:nvPr/>
        </p:nvSpPr>
        <p:spPr>
          <a:xfrm>
            <a:off x="482760" y="1025640"/>
            <a:ext cx="60609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cross both mass-media and niche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74"/>
          <p:cNvSpPr/>
          <p:nvPr/>
        </p:nvSpPr>
        <p:spPr>
          <a:xfrm>
            <a:off x="2662200" y="2805120"/>
            <a:ext cx="1054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75"/>
          <p:cNvSpPr/>
          <p:nvPr/>
        </p:nvSpPr>
        <p:spPr>
          <a:xfrm>
            <a:off x="5146560" y="41101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ich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hape 176"/>
          <p:cNvSpPr/>
          <p:nvPr/>
        </p:nvSpPr>
        <p:spPr>
          <a:xfrm>
            <a:off x="3727440" y="3395520"/>
            <a:ext cx="1765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s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hape 177"/>
          <p:cNvSpPr/>
          <p:nvPr/>
        </p:nvSpPr>
        <p:spPr>
          <a:xfrm>
            <a:off x="2335320" y="2744640"/>
            <a:ext cx="4476600" cy="254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2520" y="1025640"/>
            <a:ext cx="695952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can display advertising benefit your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hape 183"/>
          <p:cNvSpPr/>
          <p:nvPr/>
        </p:nvSpPr>
        <p:spPr>
          <a:xfrm>
            <a:off x="512640" y="3633840"/>
            <a:ext cx="3940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re are four phases to a customer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ying cyc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4"/>
          <p:cNvSpPr/>
          <p:nvPr/>
        </p:nvSpPr>
        <p:spPr>
          <a:xfrm>
            <a:off x="441360" y="2387520"/>
            <a:ext cx="37972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isplay advertising can help build  awareness, increase campaign reach, drive conversions and ultimately speed up this buying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hape 185"/>
          <p:cNvCxnSpPr>
            <a:stCxn id="200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01" name="Shape 187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hape 188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189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hape 190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91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2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94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hape 195"/>
          <p:cNvCxnSpPr/>
          <p:nvPr/>
        </p:nvCxnSpPr>
        <p:spPr>
          <a:xfrm>
            <a:off x="4084560" y="6076440"/>
            <a:ext cx="172800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10" name="Shape 196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97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98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99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0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hape 201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hape 186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hape 202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hape 203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hape 204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Shape 205"/>
          <p:cNvGrpSpPr/>
          <p:nvPr/>
        </p:nvGrpSpPr>
        <p:grpSpPr>
          <a:xfrm>
            <a:off x="5389560" y="2378160"/>
            <a:ext cx="2770200" cy="2803320"/>
            <a:chOff x="5389560" y="2378160"/>
            <a:chExt cx="2770200" cy="2803320"/>
          </a:xfrm>
        </p:grpSpPr>
        <p:sp>
          <p:nvSpPr>
            <p:cNvPr id="220" name="Shape 206"/>
            <p:cNvSpPr/>
            <p:nvPr/>
          </p:nvSpPr>
          <p:spPr>
            <a:xfrm>
              <a:off x="5389560" y="2758320"/>
              <a:ext cx="2770200" cy="21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hape 207"/>
            <p:cNvSpPr/>
            <p:nvPr/>
          </p:nvSpPr>
          <p:spPr>
            <a:xfrm>
              <a:off x="5412600" y="2814480"/>
              <a:ext cx="2586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Aware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hape 208"/>
            <p:cNvSpPr/>
            <p:nvPr/>
          </p:nvSpPr>
          <p:spPr>
            <a:xfrm>
              <a:off x="5412600" y="3355560"/>
              <a:ext cx="2586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Inter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hape 209"/>
            <p:cNvSpPr/>
            <p:nvPr/>
          </p:nvSpPr>
          <p:spPr>
            <a:xfrm>
              <a:off x="5412600" y="3906000"/>
              <a:ext cx="2586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hape 210"/>
            <p:cNvSpPr/>
            <p:nvPr/>
          </p:nvSpPr>
          <p:spPr>
            <a:xfrm>
              <a:off x="6175080" y="4466160"/>
              <a:ext cx="12128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Purc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hape 211"/>
            <p:cNvSpPr/>
            <p:nvPr/>
          </p:nvSpPr>
          <p:spPr>
            <a:xfrm>
              <a:off x="5475960" y="2378160"/>
              <a:ext cx="2586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Helvetica Neue"/>
                  <a:ea typeface="Helvetica Neue"/>
                </a:rPr>
                <a:t>Customer Buying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hape 212"/>
            <p:cNvSpPr/>
            <p:nvPr/>
          </p:nvSpPr>
          <p:spPr>
            <a:xfrm>
              <a:off x="5412600" y="4931280"/>
              <a:ext cx="25869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Helvetica Neue"/>
                  <a:ea typeface="Helvetica Neue"/>
                </a:rPr>
                <a:t>Loyal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hape 218"/>
          <p:cNvSpPr/>
          <p:nvPr/>
        </p:nvSpPr>
        <p:spPr>
          <a:xfrm>
            <a:off x="482760" y="1025640"/>
            <a:ext cx="75992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choose the Google Display Network for your busi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219"/>
          <p:cNvSpPr/>
          <p:nvPr/>
        </p:nvSpPr>
        <p:spPr>
          <a:xfrm>
            <a:off x="473040" y="2376360"/>
            <a:ext cx="6120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reach millions of sites, videos and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earch and Display is the perfect tandem to reach your customers in every step of the buying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mbining Search and Display in your campaigns will get you more conversions compared to Search only 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hape 220"/>
          <p:cNvCxnSpPr>
            <a:stCxn id="230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31" name="Shape 222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hape 223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224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hape 225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hape 226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hape 227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hape 228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hape 229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hape 230"/>
          <p:cNvCxnSpPr/>
          <p:nvPr/>
        </p:nvCxnSpPr>
        <p:spPr>
          <a:xfrm>
            <a:off x="4084560" y="6076440"/>
            <a:ext cx="172800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40" name="Shape 231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hape 232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hape 233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34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hape 235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hape 236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hape 221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hape 237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hape 238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hape 239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ape 245"/>
          <p:cNvSpPr/>
          <p:nvPr/>
        </p:nvSpPr>
        <p:spPr>
          <a:xfrm>
            <a:off x="473040" y="2387520"/>
            <a:ext cx="5646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 allows you to reach relevant customers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extual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arget your audience based on their keyword search, topic search or placement search (sites they vis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udience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arget your audience based on their interests, demographic or through remarketing. You can also use Google’s look-a-like technology to find consumers with similar browsing habits to those on your remarketing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hape 246"/>
          <p:cNvSpPr/>
          <p:nvPr/>
        </p:nvSpPr>
        <p:spPr>
          <a:xfrm>
            <a:off x="482760" y="1025640"/>
            <a:ext cx="68720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to target the right custom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hape 247"/>
          <p:cNvCxnSpPr>
            <a:stCxn id="252" idx="2"/>
          </p:cNvCxnSpPr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53" name="Shape 249"/>
          <p:cNvSpPr/>
          <p:nvPr/>
        </p:nvSpPr>
        <p:spPr>
          <a:xfrm>
            <a:off x="61023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hape 250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hape 251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252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253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254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25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256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hape 257"/>
          <p:cNvCxnSpPr/>
          <p:nvPr/>
        </p:nvCxnSpPr>
        <p:spPr>
          <a:xfrm>
            <a:off x="4084560" y="6076440"/>
            <a:ext cx="2448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62" name="Shape 258"/>
          <p:cNvSpPr/>
          <p:nvPr/>
        </p:nvSpPr>
        <p:spPr>
          <a:xfrm>
            <a:off x="40356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259"/>
          <p:cNvSpPr/>
          <p:nvPr/>
        </p:nvSpPr>
        <p:spPr>
          <a:xfrm>
            <a:off x="472428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260"/>
          <p:cNvSpPr/>
          <p:nvPr/>
        </p:nvSpPr>
        <p:spPr>
          <a:xfrm>
            <a:off x="54133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hape 261"/>
          <p:cNvSpPr/>
          <p:nvPr/>
        </p:nvSpPr>
        <p:spPr>
          <a:xfrm>
            <a:off x="6102360" y="603576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hape 262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hape 263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hape 248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hape 264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hape 265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hape 266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hape 267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hape 273"/>
          <p:cNvSpPr/>
          <p:nvPr/>
        </p:nvSpPr>
        <p:spPr>
          <a:xfrm>
            <a:off x="482760" y="1025640"/>
            <a:ext cx="68720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to target the right custom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hape 274"/>
          <p:cNvSpPr/>
          <p:nvPr/>
        </p:nvSpPr>
        <p:spPr>
          <a:xfrm>
            <a:off x="1981080" y="3151080"/>
            <a:ext cx="1683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extual 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hape 275"/>
          <p:cNvSpPr/>
          <p:nvPr/>
        </p:nvSpPr>
        <p:spPr>
          <a:xfrm>
            <a:off x="4267080" y="3151080"/>
            <a:ext cx="1758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udience 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hape 276"/>
          <p:cNvSpPr/>
          <p:nvPr/>
        </p:nvSpPr>
        <p:spPr>
          <a:xfrm>
            <a:off x="3492360" y="3059280"/>
            <a:ext cx="5940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403"/>
                </a:solidFill>
                <a:latin typeface="Helvetica Neue"/>
                <a:ea typeface="Helvetica Neue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hape 277"/>
          <p:cNvSpPr/>
          <p:nvPr/>
        </p:nvSpPr>
        <p:spPr>
          <a:xfrm>
            <a:off x="482760" y="2414520"/>
            <a:ext cx="20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best approach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hape 278"/>
          <p:cNvSpPr/>
          <p:nvPr/>
        </p:nvSpPr>
        <p:spPr>
          <a:xfrm rot="20335200">
            <a:off x="6367320" y="4102200"/>
            <a:ext cx="1905120" cy="113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hape 279"/>
          <p:cNvCxnSpPr/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79" name="Shape 280"/>
          <p:cNvSpPr/>
          <p:nvPr/>
        </p:nvSpPr>
        <p:spPr>
          <a:xfrm>
            <a:off x="61102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281"/>
          <p:cNvSpPr/>
          <p:nvPr/>
        </p:nvSpPr>
        <p:spPr>
          <a:xfrm>
            <a:off x="5726160" y="6146640"/>
            <a:ext cx="807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forma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hape 282"/>
          <p:cNvSpPr/>
          <p:nvPr/>
        </p:nvSpPr>
        <p:spPr>
          <a:xfrm>
            <a:off x="709920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hape 28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hape 284"/>
          <p:cNvSpPr/>
          <p:nvPr/>
        </p:nvSpPr>
        <p:spPr>
          <a:xfrm>
            <a:off x="6345360" y="6146640"/>
            <a:ext cx="9745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Targ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hape 285"/>
          <p:cNvSpPr/>
          <p:nvPr/>
        </p:nvSpPr>
        <p:spPr>
          <a:xfrm>
            <a:off x="3795840" y="6146640"/>
            <a:ext cx="552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hape 286"/>
          <p:cNvSpPr/>
          <p:nvPr/>
        </p:nvSpPr>
        <p:spPr>
          <a:xfrm>
            <a:off x="5032440" y="6146640"/>
            <a:ext cx="836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hape 287"/>
          <p:cNvSpPr/>
          <p:nvPr/>
        </p:nvSpPr>
        <p:spPr>
          <a:xfrm>
            <a:off x="442908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Shape 288"/>
          <p:cNvCxnSpPr/>
          <p:nvPr/>
        </p:nvCxnSpPr>
        <p:spPr>
          <a:xfrm>
            <a:off x="4084560" y="6076440"/>
            <a:ext cx="244872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cxnSp>
        <p:nvCxnSpPr>
          <p:cNvPr id="288" name="Shape 289"/>
          <p:cNvCxnSpPr/>
          <p:nvPr/>
        </p:nvCxnSpPr>
        <p:spPr>
          <a:xfrm>
            <a:off x="4032360" y="6076440"/>
            <a:ext cx="4161600" cy="252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89" name="Shape 290"/>
          <p:cNvSpPr/>
          <p:nvPr/>
        </p:nvSpPr>
        <p:spPr>
          <a:xfrm>
            <a:off x="67914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hape 291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hape 292"/>
          <p:cNvSpPr/>
          <p:nvPr/>
        </p:nvSpPr>
        <p:spPr>
          <a:xfrm>
            <a:off x="47242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hape 293"/>
          <p:cNvSpPr/>
          <p:nvPr/>
        </p:nvSpPr>
        <p:spPr>
          <a:xfrm>
            <a:off x="54180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hape 294"/>
          <p:cNvSpPr/>
          <p:nvPr/>
        </p:nvSpPr>
        <p:spPr>
          <a:xfrm>
            <a:off x="403236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hape 295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3:23Z</dcterms:modified>
  <cp:revision>4</cp:revision>
  <dc:subject/>
  <dc:title>The Google  Display Network. Why Display Matters.</dc:title>
</cp:coreProperties>
</file>