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E64-7EAA-4E26-A69A-DD5459AF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DA8-FCD4-45DC-8E3D-91D95566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35B-F0A0-419E-B0AE-A756A847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E44-0B28-43A5-8EFA-AF41F661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345-52AE-4D23-A4E8-7C1E49EC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D0D-C58C-42D6-9172-EE751296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E50-159D-4D35-A610-71204427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91E-D339-46C7-A072-790FA895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FC0-D91E-4F22-BA8B-40E1156C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CE2-8D49-47DE-AAC6-6C7C43D6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20E-7393-4769-8449-8404896D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159-BF4E-4343-916D-87E6CDF4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15"/>
          <p:cNvSpPr/>
          <p:nvPr/>
        </p:nvSpPr>
        <p:spPr>
          <a:xfrm>
            <a:off x="7061040" y="0"/>
            <a:ext cx="161316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hape 16"/>
          <p:cNvSpPr/>
          <p:nvPr/>
        </p:nvSpPr>
        <p:spPr>
          <a:xfrm>
            <a:off x="610092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Never miss an opportun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Dynamic Search A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hape 20"/>
          <p:cNvSpPr/>
          <p:nvPr/>
        </p:nvSpPr>
        <p:spPr>
          <a:xfrm>
            <a:off x="7061040" y="0"/>
            <a:ext cx="161316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hape 21"/>
          <p:cNvSpPr/>
          <p:nvPr/>
        </p:nvSpPr>
        <p:spPr>
          <a:xfrm>
            <a:off x="610092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Never miss an opportun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Dynamic Search A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business-catalyst-seo.png"/>
          <p:cNvPicPr/>
          <p:nvPr/>
        </p:nvPicPr>
        <p:blipFill>
          <a:blip r:embed="rId2"/>
          <a:stretch/>
        </p:blipFill>
        <p:spPr>
          <a:xfrm>
            <a:off x="455760" y="5878440"/>
            <a:ext cx="1992240" cy="501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ads/innovations/dynamicsearchads.html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ads/innovations/dynamicsearchads.html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6960" y="901440"/>
            <a:ext cx="84708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Dynamic </a:t>
            </a:r>
            <a:br>
              <a:rPr sz="6200"/>
            </a:br>
            <a:r>
              <a:rPr b="1" lang="en-US" sz="62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Search Ads.</a:t>
            </a:r>
            <a:br>
              <a:rPr sz="6200"/>
            </a:br>
            <a:r>
              <a:rPr b="0" lang="en-US" sz="4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Never miss an opportun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usiness-catalyst-seo.png"/>
          <p:cNvPicPr/>
          <p:nvPr/>
        </p:nvPicPr>
        <p:blipFill>
          <a:blip r:embed="rId1"/>
          <a:stretch/>
        </p:blipFill>
        <p:spPr>
          <a:xfrm>
            <a:off x="455760" y="5776920"/>
            <a:ext cx="293364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8920" y="1025280"/>
            <a:ext cx="817236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at are Dynamic </a:t>
            </a:r>
            <a:br>
              <a:rPr sz="3600"/>
            </a:b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Search A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hape 97"/>
          <p:cNvSpPr/>
          <p:nvPr/>
        </p:nvSpPr>
        <p:spPr>
          <a:xfrm>
            <a:off x="452520" y="2360520"/>
            <a:ext cx="635616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Dynamic Search Ads (DSA) are generated for you by Google. They target relevant customers with ads generated directly from your web site – </a:t>
            </a:r>
            <a:r>
              <a:rPr b="0" i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dynam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se ads complement your existing keyword based campaigns to deliver more clicks and conversions with less 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hape 98"/>
          <p:cNvSpPr/>
          <p:nvPr/>
        </p:nvSpPr>
        <p:spPr>
          <a:xfrm>
            <a:off x="515448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hape 99"/>
          <p:cNvSpPr/>
          <p:nvPr/>
        </p:nvSpPr>
        <p:spPr>
          <a:xfrm>
            <a:off x="5854680" y="6146640"/>
            <a:ext cx="552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hape 100"/>
          <p:cNvSpPr/>
          <p:nvPr/>
        </p:nvSpPr>
        <p:spPr>
          <a:xfrm>
            <a:off x="6507000" y="6146640"/>
            <a:ext cx="63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 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hape 101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Reme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hape 102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hape 103"/>
          <p:cNvCxnSpPr>
            <a:stCxn id="132" idx="2"/>
          </p:cNvCxnSpPr>
          <p:nvPr/>
        </p:nvCxnSpPr>
        <p:spPr>
          <a:xfrm>
            <a:off x="5416560" y="6073920"/>
            <a:ext cx="2775600" cy="36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33" name="Shape 105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hape 106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hape 107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hape 108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hape 109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hape 110"/>
          <p:cNvCxnSpPr/>
          <p:nvPr/>
        </p:nvCxnSpPr>
        <p:spPr>
          <a:xfrm>
            <a:off x="5459040" y="6070320"/>
            <a:ext cx="40068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32" name="Shape 104"/>
          <p:cNvSpPr/>
          <p:nvPr/>
        </p:nvSpPr>
        <p:spPr>
          <a:xfrm>
            <a:off x="541656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11"/>
          <p:cNvSpPr/>
          <p:nvPr/>
        </p:nvSpPr>
        <p:spPr>
          <a:xfrm rot="20425800">
            <a:off x="6586560" y="4149720"/>
            <a:ext cx="1905120" cy="113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8920" y="1025280"/>
            <a:ext cx="817236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y use Dynamic </a:t>
            </a:r>
            <a:br>
              <a:rPr sz="3600"/>
            </a:b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Search A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hape 117"/>
          <p:cNvSpPr/>
          <p:nvPr/>
        </p:nvSpPr>
        <p:spPr>
          <a:xfrm>
            <a:off x="461880" y="2389320"/>
            <a:ext cx="676296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’s effective - during testing, most advertisers saw 5-10%* more clicks and conversions with satisfactory R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 won’t compete with existing active key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 will not affect your campaigns’ quality s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You can use Sitelinks, location extensions, product extensions, social extensions &amp; phone extensions with your DSA campaign to match search queries to favorable landing p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hape 118"/>
          <p:cNvSpPr/>
          <p:nvPr/>
        </p:nvSpPr>
        <p:spPr>
          <a:xfrm>
            <a:off x="517680" y="6491160"/>
            <a:ext cx="8042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*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http://www.google.com/ads/innovations/dynamicsearchads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hape 119"/>
          <p:cNvSpPr/>
          <p:nvPr/>
        </p:nvSpPr>
        <p:spPr>
          <a:xfrm>
            <a:off x="515448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hape 120"/>
          <p:cNvSpPr/>
          <p:nvPr/>
        </p:nvSpPr>
        <p:spPr>
          <a:xfrm>
            <a:off x="5854680" y="6146640"/>
            <a:ext cx="552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121"/>
          <p:cNvSpPr/>
          <p:nvPr/>
        </p:nvSpPr>
        <p:spPr>
          <a:xfrm>
            <a:off x="6507000" y="6146640"/>
            <a:ext cx="63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 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hape 122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Reme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hape 123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hape 124"/>
          <p:cNvCxnSpPr>
            <a:stCxn id="149" idx="2"/>
          </p:cNvCxnSpPr>
          <p:nvPr/>
        </p:nvCxnSpPr>
        <p:spPr>
          <a:xfrm>
            <a:off x="5416560" y="6073920"/>
            <a:ext cx="2775600" cy="36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50" name="Shape 126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hape 127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hape 128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129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hape 130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hape 131"/>
          <p:cNvCxnSpPr/>
          <p:nvPr/>
        </p:nvCxnSpPr>
        <p:spPr>
          <a:xfrm>
            <a:off x="5459040" y="6070320"/>
            <a:ext cx="108180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49" name="Shape 125"/>
          <p:cNvSpPr/>
          <p:nvPr/>
        </p:nvSpPr>
        <p:spPr>
          <a:xfrm>
            <a:off x="541656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hape 132"/>
          <p:cNvSpPr/>
          <p:nvPr/>
        </p:nvSpPr>
        <p:spPr>
          <a:xfrm>
            <a:off x="6095880" y="60372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7760" y="1025280"/>
            <a:ext cx="7211880" cy="11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How it 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hape 138"/>
          <p:cNvSpPr/>
          <p:nvPr/>
        </p:nvSpPr>
        <p:spPr>
          <a:xfrm>
            <a:off x="515448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hape 139"/>
          <p:cNvSpPr/>
          <p:nvPr/>
        </p:nvSpPr>
        <p:spPr>
          <a:xfrm>
            <a:off x="5854680" y="6146640"/>
            <a:ext cx="552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hape 140"/>
          <p:cNvSpPr/>
          <p:nvPr/>
        </p:nvSpPr>
        <p:spPr>
          <a:xfrm>
            <a:off x="6507000" y="6146640"/>
            <a:ext cx="63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 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hape 141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Reme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142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hape 143"/>
          <p:cNvCxnSpPr>
            <a:stCxn id="164" idx="2"/>
          </p:cNvCxnSpPr>
          <p:nvPr/>
        </p:nvCxnSpPr>
        <p:spPr>
          <a:xfrm>
            <a:off x="5416560" y="6073920"/>
            <a:ext cx="2775600" cy="36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65" name="Shape 145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hape 146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hape 147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hape 148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hape 149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Shape 150"/>
          <p:cNvCxnSpPr/>
          <p:nvPr/>
        </p:nvCxnSpPr>
        <p:spPr>
          <a:xfrm>
            <a:off x="5459040" y="6070320"/>
            <a:ext cx="180108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64" name="Shape 144"/>
          <p:cNvSpPr/>
          <p:nvPr/>
        </p:nvSpPr>
        <p:spPr>
          <a:xfrm>
            <a:off x="541656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hape 151"/>
          <p:cNvSpPr/>
          <p:nvPr/>
        </p:nvSpPr>
        <p:spPr>
          <a:xfrm>
            <a:off x="6095880" y="60372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hape 152"/>
          <p:cNvSpPr/>
          <p:nvPr/>
        </p:nvSpPr>
        <p:spPr>
          <a:xfrm>
            <a:off x="678492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hape 153"/>
          <p:cNvSpPr/>
          <p:nvPr/>
        </p:nvSpPr>
        <p:spPr>
          <a:xfrm>
            <a:off x="474840" y="2382840"/>
            <a:ext cx="6465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ith Dynamic Search Ads, Google keeps track of your inventory using its organic web crawling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hape 154"/>
          <p:cNvSpPr/>
          <p:nvPr/>
        </p:nvSpPr>
        <p:spPr>
          <a:xfrm>
            <a:off x="6923160" y="4255920"/>
            <a:ext cx="1062000" cy="105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hape 155"/>
          <p:cNvSpPr/>
          <p:nvPr/>
        </p:nvSpPr>
        <p:spPr>
          <a:xfrm rot="21045600">
            <a:off x="7831080" y="3974760"/>
            <a:ext cx="569880" cy="563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hape 160"/>
          <p:cNvSpPr/>
          <p:nvPr/>
        </p:nvSpPr>
        <p:spPr>
          <a:xfrm>
            <a:off x="515448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hape 161"/>
          <p:cNvSpPr/>
          <p:nvPr/>
        </p:nvSpPr>
        <p:spPr>
          <a:xfrm>
            <a:off x="5854680" y="6146640"/>
            <a:ext cx="552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hape 162"/>
          <p:cNvSpPr/>
          <p:nvPr/>
        </p:nvSpPr>
        <p:spPr>
          <a:xfrm>
            <a:off x="6507000" y="6146640"/>
            <a:ext cx="63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 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hape 163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Reme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hape 164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Shape 165"/>
          <p:cNvCxnSpPr>
            <a:stCxn id="182" idx="2"/>
          </p:cNvCxnSpPr>
          <p:nvPr/>
        </p:nvCxnSpPr>
        <p:spPr>
          <a:xfrm>
            <a:off x="5416560" y="6073920"/>
            <a:ext cx="2775600" cy="36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83" name="Shape 167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hape 168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hape 169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70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hape 171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hape 172"/>
          <p:cNvCxnSpPr/>
          <p:nvPr/>
        </p:nvCxnSpPr>
        <p:spPr>
          <a:xfrm>
            <a:off x="5459040" y="6070320"/>
            <a:ext cx="180108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82" name="Shape 166"/>
          <p:cNvSpPr/>
          <p:nvPr/>
        </p:nvSpPr>
        <p:spPr>
          <a:xfrm>
            <a:off x="541656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hape 173"/>
          <p:cNvSpPr/>
          <p:nvPr/>
        </p:nvSpPr>
        <p:spPr>
          <a:xfrm>
            <a:off x="6095880" y="60372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hape 174"/>
          <p:cNvSpPr/>
          <p:nvPr/>
        </p:nvSpPr>
        <p:spPr>
          <a:xfrm>
            <a:off x="678492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hape 175"/>
          <p:cNvSpPr/>
          <p:nvPr/>
        </p:nvSpPr>
        <p:spPr>
          <a:xfrm>
            <a:off x="438120" y="1025640"/>
            <a:ext cx="721188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How it 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hape 176"/>
          <p:cNvSpPr/>
          <p:nvPr/>
        </p:nvSpPr>
        <p:spPr>
          <a:xfrm>
            <a:off x="6326280" y="3932280"/>
            <a:ext cx="1771560" cy="139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hape 177"/>
          <p:cNvSpPr/>
          <p:nvPr/>
        </p:nvSpPr>
        <p:spPr>
          <a:xfrm>
            <a:off x="474840" y="2382840"/>
            <a:ext cx="523368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hen a relevant Google Search occurs, Google creates an ad with a headline based on the search term used by your customer </a:t>
            </a: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and</a:t>
            </a: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 text based on your most relevant landing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 ad enters the auction and competes normally – but is held back for any search where you already have an eligible keyword-targeted 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 also advertises more of your in-stock inventory - without making any changes to your existing keyword campaig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8920" y="1025280"/>
            <a:ext cx="817236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Two things to keep in mind.</a:t>
            </a:r>
            <a:r>
              <a:rPr b="0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hape 183"/>
          <p:cNvSpPr/>
          <p:nvPr/>
        </p:nvSpPr>
        <p:spPr>
          <a:xfrm>
            <a:off x="480960" y="2378160"/>
            <a:ext cx="73440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Every day 16%* of searches are new searches that Google has never seen bef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Dynamic Search Ads keep your AdWords campaigns in sync with what you’re selling and what users are searching for right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hape 184"/>
          <p:cNvSpPr/>
          <p:nvPr/>
        </p:nvSpPr>
        <p:spPr>
          <a:xfrm>
            <a:off x="517680" y="6499080"/>
            <a:ext cx="8042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Helvetica Neue"/>
                <a:ea typeface="Helvetica Neue"/>
              </a:rPr>
              <a:t>*</a:t>
            </a:r>
            <a:r>
              <a:rPr b="0" lang="en-US" sz="8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http://www.google.com/ads/innovations/dynamicsearchads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hape 185"/>
          <p:cNvSpPr/>
          <p:nvPr/>
        </p:nvSpPr>
        <p:spPr>
          <a:xfrm>
            <a:off x="515448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hape 186"/>
          <p:cNvSpPr/>
          <p:nvPr/>
        </p:nvSpPr>
        <p:spPr>
          <a:xfrm>
            <a:off x="5854680" y="6146640"/>
            <a:ext cx="552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hape 187"/>
          <p:cNvSpPr/>
          <p:nvPr/>
        </p:nvSpPr>
        <p:spPr>
          <a:xfrm>
            <a:off x="6507000" y="6146640"/>
            <a:ext cx="63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 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hape 188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Reme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hape 189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Shape 190"/>
          <p:cNvCxnSpPr>
            <a:stCxn id="203" idx="2"/>
          </p:cNvCxnSpPr>
          <p:nvPr/>
        </p:nvCxnSpPr>
        <p:spPr>
          <a:xfrm>
            <a:off x="5416560" y="6073920"/>
            <a:ext cx="2775600" cy="36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204" name="Shape 192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hape 193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hape 194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hape 195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hape 196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hape 197"/>
          <p:cNvCxnSpPr/>
          <p:nvPr/>
        </p:nvCxnSpPr>
        <p:spPr>
          <a:xfrm>
            <a:off x="5459040" y="6070320"/>
            <a:ext cx="241380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203" name="Shape 191"/>
          <p:cNvSpPr/>
          <p:nvPr/>
        </p:nvSpPr>
        <p:spPr>
          <a:xfrm>
            <a:off x="541656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hape 198"/>
          <p:cNvSpPr/>
          <p:nvPr/>
        </p:nvSpPr>
        <p:spPr>
          <a:xfrm>
            <a:off x="6095880" y="60372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hape 199"/>
          <p:cNvSpPr/>
          <p:nvPr/>
        </p:nvSpPr>
        <p:spPr>
          <a:xfrm>
            <a:off x="678492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hape 200"/>
          <p:cNvSpPr/>
          <p:nvPr/>
        </p:nvSpPr>
        <p:spPr>
          <a:xfrm>
            <a:off x="7475400" y="60372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3" name="Shape 205"/>
          <p:cNvCxnSpPr>
            <a:stCxn id="214" idx="2"/>
          </p:cNvCxnSpPr>
          <p:nvPr/>
        </p:nvCxnSpPr>
        <p:spPr>
          <a:xfrm>
            <a:off x="5416560" y="6073920"/>
            <a:ext cx="2775600" cy="36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215" name="Shape 207"/>
          <p:cNvCxnSpPr/>
          <p:nvPr/>
        </p:nvCxnSpPr>
        <p:spPr>
          <a:xfrm>
            <a:off x="5440320" y="6067080"/>
            <a:ext cx="2737080" cy="3960"/>
          </a:xfrm>
          <a:prstGeom prst="straightConnector1">
            <a:avLst/>
          </a:prstGeom>
          <a:ln w="34920">
            <a:solidFill>
              <a:srgbClr val="558ed4"/>
            </a:solidFill>
            <a:miter/>
          </a:ln>
        </p:spPr>
      </p:cxnSp>
      <p:sp>
        <p:nvSpPr>
          <p:cNvPr id="216" name="Shape 208"/>
          <p:cNvSpPr/>
          <p:nvPr/>
        </p:nvSpPr>
        <p:spPr>
          <a:xfrm>
            <a:off x="482760" y="1943280"/>
            <a:ext cx="699264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av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Google AdWords will scan the content of your website and determine which searches might be relevant to the products on your website for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hows relevant 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hen a customers’ search is relevant to your product or service, Google AdWords will dynamically generate an ad for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ontrol your campa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You can show ads based on your entire website, or specific categories or pages. Or, prevent your ads from showing for products that are temporarily out-of-st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hape 209"/>
          <p:cNvSpPr/>
          <p:nvPr/>
        </p:nvSpPr>
        <p:spPr>
          <a:xfrm>
            <a:off x="515448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hape 210"/>
          <p:cNvSpPr/>
          <p:nvPr/>
        </p:nvSpPr>
        <p:spPr>
          <a:xfrm>
            <a:off x="5854680" y="6146640"/>
            <a:ext cx="552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hape 211"/>
          <p:cNvSpPr/>
          <p:nvPr/>
        </p:nvSpPr>
        <p:spPr>
          <a:xfrm>
            <a:off x="6507000" y="6146640"/>
            <a:ext cx="63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 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hape 212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Reme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hape 213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hape 214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hape 215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hape 216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hape 217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hape 218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hape 206"/>
          <p:cNvSpPr/>
          <p:nvPr/>
        </p:nvSpPr>
        <p:spPr>
          <a:xfrm>
            <a:off x="541656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hape 219"/>
          <p:cNvSpPr/>
          <p:nvPr/>
        </p:nvSpPr>
        <p:spPr>
          <a:xfrm>
            <a:off x="6095880" y="60372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hape 220"/>
          <p:cNvSpPr/>
          <p:nvPr/>
        </p:nvSpPr>
        <p:spPr>
          <a:xfrm>
            <a:off x="678492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hape 221"/>
          <p:cNvSpPr/>
          <p:nvPr/>
        </p:nvSpPr>
        <p:spPr>
          <a:xfrm>
            <a:off x="7475400" y="60372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hape 222"/>
          <p:cNvSpPr/>
          <p:nvPr/>
        </p:nvSpPr>
        <p:spPr>
          <a:xfrm>
            <a:off x="816444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hape 223"/>
          <p:cNvSpPr/>
          <p:nvPr/>
        </p:nvSpPr>
        <p:spPr>
          <a:xfrm>
            <a:off x="466560" y="1019160"/>
            <a:ext cx="31719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Concl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0080" y="999720"/>
            <a:ext cx="3568680" cy="10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229"/>
          <p:cNvSpPr/>
          <p:nvPr/>
        </p:nvSpPr>
        <p:spPr>
          <a:xfrm>
            <a:off x="492120" y="2297160"/>
            <a:ext cx="580392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f you have any queries or would like help setting up Dynamic Search Ads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Business Catalyst S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ww.businesscatalystseo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seo@businesscatalystseo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herine Anderson</cp:lastModifiedBy>
  <dcterms:modified xsi:type="dcterms:W3CDTF">2013-01-28T10:54:36Z</dcterms:modified>
  <cp:revision>3</cp:revision>
  <dc:subject/>
  <dc:title>Dynamic  Search Ads. Never miss an opportunity.</dc:title>
</cp:coreProperties>
</file>