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dt" idx="6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360" cy="3429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elvetica Neu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ftr" idx="6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 type="sldNum" idx="6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9" name="Shape 26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5F851-2E53-4657-90DB-1F438831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5F242-DD20-4E6F-88AB-94E2D5F2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FEA5C-9207-4807-801C-B12654E0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51A0D-63F7-4E0C-864A-5302AD0B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6C733-BC0D-44FD-84C9-C7AE2958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A861B-BBEE-4CB0-82C7-23390443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867BC-12EB-4E74-BD3C-F09029B6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FEBE1-2E80-4C3E-8ECB-4DA7690A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D8C47-5FAB-48D0-8C73-FFB263C5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4A5A9-82B1-4C19-AFE9-0D7C25E4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BEDA5-31B1-4260-A79C-5BDCE0AE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A7663-9463-4876-BC6B-0409F2EF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B56F3-6D6D-435F-895C-2552DC47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93079-A86F-4E96-80EE-DC3A7AB9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D63E7-4DBA-4B10-A53D-67EB231A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E1AC4-1DDE-4919-9299-42A9B46E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747A7-DDD3-4288-9ACC-98FDE9A1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A28EA-3130-40FE-A7A1-FC934BB6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2F94D-C8F1-4400-90DB-21B62C66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A20E6-9C41-4014-BB58-EE40A1D0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CE97C-E251-4B21-B74B-96165261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D4AEA-1D06-4BA0-BD88-73A80A419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37E36-E5E2-4D40-ADFD-864657F3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CE8C0-F220-487A-B894-617005DD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3848B-9434-4C5C-8AB8-DE163BDC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01488-CD35-4D52-9A32-A888C310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C2E18-FAE6-4094-928C-A0527B5B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A3FCA-5E6C-4F93-9518-C2D726DE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FF2D1-BD60-4D7D-989E-6E6FD7E5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EF7A8-1973-4095-AE90-9B4E4FE4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305FC-F57E-4E06-8307-04005350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AE84A-0A02-48FE-BBD2-4748112D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5099D-81A6-425D-B38F-DD1D056C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38BEC-4B97-401B-8BF8-B9ECFB99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436D4-D8B6-4F50-8873-3F7D847D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00609-267F-4ECD-84C8-8ACA9388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AD982-0C62-4D49-809D-74AF7776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8C204-E2AF-4271-94FC-6F4A17B3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582DD-5B83-4FBC-B675-9D631065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CE54C-CE1F-442A-B038-9F3CE49B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FE927-9E1D-480B-B753-EEF918B3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72DF98-A146-4DB1-9E48-AA4C1E57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B3296-88E0-4149-8D32-0A700DB8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4F091-B9CB-428F-906D-FFABF33D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67DE7-B5C1-4167-A5A2-15B73C1B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653B4-9530-4AAB-B49A-133C46EC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98427-E344-4C15-B030-31E6F381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FCA30-E100-4959-BE9A-D3AA69AB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9C99E-F23C-4B1A-8C84-07F7661F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BB736-4829-415E-B779-40FD1F2D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A3B8C-3B92-4F69-B393-F2BE4FE2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3236FD-9E9B-478E-8C22-FCB6309F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9FAC2-083D-4E90-B617-086CDE4F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A3398F-FE1D-4ECD-9786-14F85A4C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103CB-E119-4A7A-B2D6-AAC08A41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428FD-B2C0-46D1-87E6-89C87CB51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9DB57-3BD1-4152-BFFB-AEA3F957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F5D30-5895-4D1E-A8A4-E68D5D5B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82E38-7B38-4060-AC06-4684E3CB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4FE12-C6A4-4401-8FF6-37C7169C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F1B4A9-B388-4D59-B5E1-98757EDE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8135E-6715-4193-A159-D022D397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D88D67-D2AF-4F4C-A771-F4D63C15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D7592-B935-4D3C-B563-9C4EE317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1A710F-EDFF-4C45-940C-A5DAD9AD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84414-7170-4B0C-BC5F-E2A1D40F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97D86-3B3D-45A5-B6C1-58E34002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2980F-4BD1-4C90-9ED4-F71AAB24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0819F-E2F1-4764-A237-8341B727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F870E-4E93-470C-A200-9DDAD9E51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062FD-ED33-4521-BC7A-96D420691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7F9EA-0D8B-4F84-86BD-AED38069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3A5C4-64B3-474B-93A7-A3E02E6D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841BF-20F0-4E41-BADD-7336CD72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A1F42-372F-4EBA-B615-D77CDCEF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3419A-55E9-43FF-AE80-1F1B046C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01148-F708-48F1-ABCA-B7F9A4A1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52E82-16BF-47D5-8560-ACD1FC97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6C936-325B-4A18-9CD7-C396DE45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DF472-3B2B-4DEF-A084-742F2585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A985F-5D56-48CA-914A-536D50156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35E74-53B3-4C19-ABD4-2E945DC0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487C7-BEF3-44EB-B3C5-30F457B8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605AC-C5F1-4C68-B151-C24638FD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D53B8-A453-4AEA-877D-D645408B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CBDC9-31FE-482D-B2DE-FF1E3FC1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18828-0F37-4F54-B964-2008AF88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D2489-289D-449A-9ACD-0D002667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2ED61-D9EA-4370-8493-EA5D966E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D8384-D3C5-4E03-B4C4-282F32AD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88960-7724-4715-9948-D56C5129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F8C72-8B61-42BE-BC32-FF5AA8DE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15F99-7DC9-42ED-AD00-268E72807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835994-A85D-4760-810E-38158485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56FE09-3C5C-4C79-BEEC-7ED75AB4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8502C3-44B3-440A-B6D6-B6CBA0B3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2EBC4E-2B03-4F66-BED6-99F75FE3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E6F6D3-F1EA-4A14-A705-5B873282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0C2B7B-2F35-4809-AC3F-5F74A892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3E498B-90A1-4536-A10B-9033272C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686D8A-AC71-4027-8974-D5644874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030175-EAF0-456D-AF8A-9DFCE58E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5F092E-241D-4E73-BCC7-6FD0CA57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429B69-EE24-4CA5-BF56-7C69B14F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8C54C5-5106-4DBE-80BB-52047741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6BC8DA-7E52-4F0B-9778-8790A68E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4EA3B4-DC7B-4A5D-BD37-EA0FA755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E9B5A5-42A3-43EE-AE87-464C09B6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5AC87D-91C8-417B-B7B8-29D9ED03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C54E3A-4F16-4716-9F7E-D47AD415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A16C82-397F-48A2-B85D-3EEFE4CF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F11E41-8196-4376-9EFD-8FA55D4B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DB5FD9-11A9-476B-A45C-217E574E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E8A0F6-06D3-4599-BADC-3783CBDB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B1B939-992E-4CD1-8974-DA11FADB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3E9E8D-EA0C-4A36-AFED-EC78AFD3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D5F291-4BD9-4AEC-A2F6-630B8C84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2A7F1B-A604-4ADD-9993-B29080E5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7CC3DB-3D11-4BBC-8C0D-1B32BAB4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DFB653-F324-4738-9C58-7A3B9AC3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7F95FB-DF91-4F81-8059-E7F4DA94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1F84DB-1EA3-4C7F-BBC6-41E13627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F1F20B-829B-4879-916D-773AAC40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33BCBD-1AA2-4D62-B2BC-FBF0CAB2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7A6893-E836-4405-A767-E04E520B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6B5D66-190A-4EBD-8B6D-73EB71D5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7B3E5F-7D8B-467B-8E17-83B8E3DF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781250-D03A-4563-BB81-EA039581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971177-D6BB-4FD8-AA11-CFE95F49D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9A3EAB-9E2C-4194-81B8-0649AC83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D9A4FA-E4CD-4857-8433-512DA979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EE84DA-FF5B-48EF-8F80-B824ADB4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C3682D-821C-4E9A-9737-C254B945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8AE70F-9794-4140-99F0-3C7E8615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13450D-AA52-45A0-A22F-7DCA8EBB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C511F6-3747-4C55-A606-BE8A72D4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DD958A-D199-4058-BDC8-15BA8CF1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77E72D-87F2-4C11-AFC2-EBFBA603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8AC8AB-754B-44E6-B497-925CC85E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0DB967-D5B7-48AA-B3CF-18C22EB0E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78BA68-3B69-42BA-9397-333025683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908D5F-5969-4D52-BBF3-7A307AD68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9E16E7-E3D5-4C2D-A993-B7376A16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FA6E66-D3D0-4DF4-9ACA-D8E2B522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FFA44E-389F-4F85-B17C-A2289E52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BFD3D3-B7CC-41E8-9642-00855524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810DAD-9D80-47A7-80E1-590A80C7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DA48AA-9ADE-4B5C-91E3-C8816F3A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30D61A-C353-48FD-B7A7-EA6B93B5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275A16-1949-428D-9EC9-078EE140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8EB67F-755A-4C44-B351-30564375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CD3A1C-A0F6-4740-A3DB-B8C25F22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189F03-E475-4E97-8013-FA17B009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2A28F6-D643-4F05-BBC4-4B8B0BC5C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C8D459-A37F-4506-9316-91FD0184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5321E3-6FF6-483F-98E4-5DDED7A4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868245-9352-471D-A147-A39DF1CC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C411D9-ED44-4B5D-B172-291A45F5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12008E-798B-40E9-91C2-7C2678D6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AE8FC6-6FDA-490F-B0F0-58501EDD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0DA2BA-7C0F-4324-9595-5D99E62F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E5726C-24BB-45A3-BAF7-BF49FD2B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4D50D4-6EC6-4F92-A704-CC9A9427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5D58F0-BFFF-4106-94E6-4EB008DF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DBDD60-D26F-431E-BF59-908562F4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1BCB3B-D43B-48E0-9AAD-2BD3CC93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CD9CF6-92DA-4289-A36D-9F7ED612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BD01FE-C10F-49CE-8ACC-8FB0A8B1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526167-4793-4511-BEC2-EA7FC94A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06B54C-56F7-4FFD-85BD-7D501C04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14763B-4052-4D7A-B5C5-2BEE1EF0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6B590C-2EB1-43D7-91BE-B3B89A8C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3D07BF-5A70-4AB4-B9E1-C15A612D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31436E-A44D-45EA-BD65-923492A6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A82E13-25B5-4ECC-87F4-46B0AF3B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21C78C-0B2F-4BB1-BD83-DBC20044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BD88B2-5D13-497A-A703-5C12EDD1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23C2F1-8AF5-4132-ABDF-C1C9B15C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04A860-2E5F-4188-9567-EBE6A2B4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6F1834-A640-4D3C-BF1B-742D12A5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7A2714-A95D-4971-A481-CA389F01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C60879-3E03-4FCF-8A2C-C832AC3F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54B128-BB87-4AA9-8737-605E4D6F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028279-1B36-4B39-854C-57BF7085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D6E5BF-C553-49F7-A979-0DDA7D70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DAAA46-739E-45FC-A76A-93EE676B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326D0C-806C-4185-9F09-C9ABAC6B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C0C196-AC2A-4F08-BEDE-DB741EF9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449DA8-04E7-4DC6-9709-09463DDB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1F29-B0DB-420A-9B30-70FE51DA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5BE8-7F3B-42D1-8C66-C8AD0755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66A7-4E4E-4069-B485-09873129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4421-8FDB-4F85-B62D-C55B51A8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F6F5-2779-4386-BCA0-A5A6A5C0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70FE-CBFD-462C-9D4D-40E8F2B3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69DE-50DF-44E3-A643-5011162C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19EB-5A03-4ADC-A046-318C6B74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A6FA-A101-42BD-A8F7-CA099138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F05D-E39A-419B-81A9-F8FA6380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B08B-CB33-4047-9D86-0CAC472A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9F71-9DB6-4525-8B53-04617FAE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F66C-EE3C-4482-9B4D-ACCAE7331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37C4-02E3-424B-864B-E26D7695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43F2-8974-4006-B5B8-5A660C21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810E-18E6-4178-A718-3CBD42EA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1E02-2894-45D2-B0A6-6DA7CD2A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C5BB-D09A-4972-930A-E0D4B059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BEDF-5458-44E6-A7EE-76D48615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45E5-D037-4EF5-98E7-C2C14818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C833-AC85-46E7-B332-CA1C3D1E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FDED-AAAC-45E4-9C31-A9BEF20B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DF33-6571-46AF-9142-0DE6D43E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3D39-6680-4F1C-B317-70DBD717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C5C56-EDEC-479A-91C2-A7F7C84B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E9051-0CEA-4219-9043-0BFAD03F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21F55-2D2E-46D3-B675-84255ED4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2D34C-3627-4EF3-8587-069D20D9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2A35D-E6DC-4810-A3F0-DCC69827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7A082-7F30-46F1-8430-11F45F2F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CA782-DE9E-409D-8060-51CAF388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5A477-EAF3-4692-84FA-8E9E3144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C2DDD-AC9B-4AFE-83BE-94B42E59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E91EC-960D-46F1-AE22-3A2A83CA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C04C1-D2FC-4B47-B728-7A9CBA71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F90C5-A1C9-4C5B-90FE-E7302BDE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56B8A-8ECB-4179-B7EE-3B4D6DC2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05CB3-B204-4025-B47D-AE52B379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D9FB0-116F-48FF-9CE3-CFCB50E7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DDE84-8FBF-4A68-8927-38B8B31A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ADD89-91EA-4635-84FD-04F9971A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C7D59-D4ED-43C3-B0C7-D9DA8526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7FF34-32A6-4F32-9EB8-9741261E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1063C-56DA-404C-ABF7-68907EF3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B55CB-48C8-423E-99F8-C5CA2256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0F0D5-4D8B-4520-8A44-FE05E110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9D162-B0BB-438E-9792-439AE126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1AF14-CD84-4F7E-A04C-9F88651E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3CA92-8493-4C7D-AE8B-A4106CE0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3092A-CA45-4D96-87CD-15D199105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D8D72-B198-4145-A9F9-B8C1770B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hape 75"/>
          <p:cNvSpPr/>
          <p:nvPr/>
        </p:nvSpPr>
        <p:spPr>
          <a:xfrm>
            <a:off x="6118200" y="21096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ach people on the go with </a:t>
            </a:r>
            <a:r>
              <a:rPr b="1" lang="ga-IE" sz="1000" spc="-1" strike="noStrike">
                <a:solidFill>
                  <a:srgbClr val="50bf32"/>
                </a:solidFill>
                <a:latin typeface="Helvetica Neue"/>
                <a:ea typeface="Helvetica Neue"/>
              </a:rPr>
              <a:t>Mobile Adverti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hape 76"/>
          <p:cNvSpPr/>
          <p:nvPr/>
        </p:nvSpPr>
        <p:spPr>
          <a:xfrm>
            <a:off x="6981840" y="0"/>
            <a:ext cx="1706400" cy="206280"/>
          </a:xfrm>
          <a:prstGeom prst="rect">
            <a:avLst/>
          </a:prstGeom>
          <a:solidFill>
            <a:srgbClr val="50b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hape 75"/>
          <p:cNvSpPr/>
          <p:nvPr/>
        </p:nvSpPr>
        <p:spPr>
          <a:xfrm>
            <a:off x="6118200" y="21096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ach people on the go with </a:t>
            </a:r>
            <a:r>
              <a:rPr b="1" lang="ga-IE" sz="1000" spc="-1" strike="noStrike">
                <a:solidFill>
                  <a:srgbClr val="50bf32"/>
                </a:solidFill>
                <a:latin typeface="Helvetica Neue"/>
                <a:ea typeface="Helvetica Neue"/>
              </a:rPr>
              <a:t>Mobile Adverti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hape 76"/>
          <p:cNvSpPr/>
          <p:nvPr/>
        </p:nvSpPr>
        <p:spPr>
          <a:xfrm>
            <a:off x="6981840" y="0"/>
            <a:ext cx="1706400" cy="206280"/>
          </a:xfrm>
          <a:prstGeom prst="rect">
            <a:avLst/>
          </a:prstGeom>
          <a:solidFill>
            <a:srgbClr val="50b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hape 75"/>
          <p:cNvSpPr/>
          <p:nvPr/>
        </p:nvSpPr>
        <p:spPr>
          <a:xfrm>
            <a:off x="6118200" y="21096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ach people on the go with </a:t>
            </a:r>
            <a:r>
              <a:rPr b="1" lang="ga-IE" sz="1000" spc="-1" strike="noStrike">
                <a:solidFill>
                  <a:srgbClr val="50bf32"/>
                </a:solidFill>
                <a:latin typeface="Helvetica Neue"/>
                <a:ea typeface="Helvetica Neue"/>
              </a:rPr>
              <a:t>Mobile Adverti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hape 76"/>
          <p:cNvSpPr/>
          <p:nvPr/>
        </p:nvSpPr>
        <p:spPr>
          <a:xfrm>
            <a:off x="6981840" y="0"/>
            <a:ext cx="1706400" cy="206280"/>
          </a:xfrm>
          <a:prstGeom prst="rect">
            <a:avLst/>
          </a:prstGeom>
          <a:solidFill>
            <a:srgbClr val="50b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Shape 75"/>
          <p:cNvSpPr/>
          <p:nvPr/>
        </p:nvSpPr>
        <p:spPr>
          <a:xfrm>
            <a:off x="6118200" y="21096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ach people on the go with </a:t>
            </a:r>
            <a:r>
              <a:rPr b="1" lang="ga-IE" sz="1000" spc="-1" strike="noStrike">
                <a:solidFill>
                  <a:srgbClr val="50bf32"/>
                </a:solidFill>
                <a:latin typeface="Helvetica Neue"/>
                <a:ea typeface="Helvetica Neue"/>
              </a:rPr>
              <a:t>Mobile Adverti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hape 76"/>
          <p:cNvSpPr/>
          <p:nvPr/>
        </p:nvSpPr>
        <p:spPr>
          <a:xfrm>
            <a:off x="6981840" y="0"/>
            <a:ext cx="1706400" cy="206280"/>
          </a:xfrm>
          <a:prstGeom prst="rect">
            <a:avLst/>
          </a:prstGeom>
          <a:solidFill>
            <a:srgbClr val="50b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Shape 75"/>
          <p:cNvSpPr/>
          <p:nvPr/>
        </p:nvSpPr>
        <p:spPr>
          <a:xfrm>
            <a:off x="6118200" y="21096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ach people on the go with </a:t>
            </a:r>
            <a:r>
              <a:rPr b="1" lang="ga-IE" sz="1000" spc="-1" strike="noStrike">
                <a:solidFill>
                  <a:srgbClr val="50bf32"/>
                </a:solidFill>
                <a:latin typeface="Helvetica Neue"/>
                <a:ea typeface="Helvetica Neue"/>
              </a:rPr>
              <a:t>Mobile Adverti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hape 76"/>
          <p:cNvSpPr/>
          <p:nvPr/>
        </p:nvSpPr>
        <p:spPr>
          <a:xfrm>
            <a:off x="6981840" y="0"/>
            <a:ext cx="1706400" cy="206280"/>
          </a:xfrm>
          <a:prstGeom prst="rect">
            <a:avLst/>
          </a:prstGeom>
          <a:solidFill>
            <a:srgbClr val="50b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hape 75"/>
          <p:cNvSpPr/>
          <p:nvPr/>
        </p:nvSpPr>
        <p:spPr>
          <a:xfrm>
            <a:off x="6118200" y="21096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ach people on the go with </a:t>
            </a:r>
            <a:r>
              <a:rPr b="1" lang="ga-IE" sz="1000" spc="-1" strike="noStrike">
                <a:solidFill>
                  <a:srgbClr val="50bf32"/>
                </a:solidFill>
                <a:latin typeface="Helvetica Neue"/>
                <a:ea typeface="Helvetica Neue"/>
              </a:rPr>
              <a:t>Mobile Adverti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hape 76"/>
          <p:cNvSpPr/>
          <p:nvPr/>
        </p:nvSpPr>
        <p:spPr>
          <a:xfrm>
            <a:off x="6981840" y="0"/>
            <a:ext cx="1706400" cy="206280"/>
          </a:xfrm>
          <a:prstGeom prst="rect">
            <a:avLst/>
          </a:prstGeom>
          <a:solidFill>
            <a:srgbClr val="50b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Shape 75"/>
          <p:cNvSpPr/>
          <p:nvPr/>
        </p:nvSpPr>
        <p:spPr>
          <a:xfrm>
            <a:off x="6118200" y="21096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ach people on the go with </a:t>
            </a:r>
            <a:r>
              <a:rPr b="1" lang="ga-IE" sz="1000" spc="-1" strike="noStrike">
                <a:solidFill>
                  <a:srgbClr val="50bf32"/>
                </a:solidFill>
                <a:latin typeface="Helvetica Neue"/>
                <a:ea typeface="Helvetica Neue"/>
              </a:rPr>
              <a:t>Mobile Adverti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Shape 76"/>
          <p:cNvSpPr/>
          <p:nvPr/>
        </p:nvSpPr>
        <p:spPr>
          <a:xfrm>
            <a:off x="6981840" y="0"/>
            <a:ext cx="1706400" cy="206280"/>
          </a:xfrm>
          <a:prstGeom prst="rect">
            <a:avLst/>
          </a:prstGeom>
          <a:solidFill>
            <a:srgbClr val="50b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Shape 75"/>
          <p:cNvSpPr/>
          <p:nvPr/>
        </p:nvSpPr>
        <p:spPr>
          <a:xfrm>
            <a:off x="6118200" y="21096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ach people on the go with </a:t>
            </a:r>
            <a:r>
              <a:rPr b="1" lang="ga-IE" sz="1000" spc="-1" strike="noStrike">
                <a:solidFill>
                  <a:srgbClr val="50bf32"/>
                </a:solidFill>
                <a:latin typeface="Helvetica Neue"/>
                <a:ea typeface="Helvetica Neue"/>
              </a:rPr>
              <a:t>Mobile Adverti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hape 76"/>
          <p:cNvSpPr/>
          <p:nvPr/>
        </p:nvSpPr>
        <p:spPr>
          <a:xfrm>
            <a:off x="6981840" y="0"/>
            <a:ext cx="1706400" cy="206280"/>
          </a:xfrm>
          <a:prstGeom prst="rect">
            <a:avLst/>
          </a:prstGeom>
          <a:solidFill>
            <a:srgbClr val="50b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hape 75"/>
          <p:cNvSpPr/>
          <p:nvPr/>
        </p:nvSpPr>
        <p:spPr>
          <a:xfrm>
            <a:off x="6118200" y="21096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ach people on the go with </a:t>
            </a:r>
            <a:r>
              <a:rPr b="1" lang="ga-IE" sz="1000" spc="-1" strike="noStrike">
                <a:solidFill>
                  <a:srgbClr val="50bf32"/>
                </a:solidFill>
                <a:latin typeface="Helvetica Neue"/>
                <a:ea typeface="Helvetica Neue"/>
              </a:rPr>
              <a:t>Mobile Adverti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hape 76"/>
          <p:cNvSpPr/>
          <p:nvPr/>
        </p:nvSpPr>
        <p:spPr>
          <a:xfrm>
            <a:off x="6981840" y="0"/>
            <a:ext cx="1706400" cy="206280"/>
          </a:xfrm>
          <a:prstGeom prst="rect">
            <a:avLst/>
          </a:prstGeom>
          <a:solidFill>
            <a:srgbClr val="50b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Shape 75"/>
          <p:cNvSpPr/>
          <p:nvPr/>
        </p:nvSpPr>
        <p:spPr>
          <a:xfrm>
            <a:off x="6118200" y="21096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ach people on the go with </a:t>
            </a:r>
            <a:r>
              <a:rPr b="1" lang="ga-IE" sz="1000" spc="-1" strike="noStrike">
                <a:solidFill>
                  <a:srgbClr val="50bf32"/>
                </a:solidFill>
                <a:latin typeface="Helvetica Neue"/>
                <a:ea typeface="Helvetica Neue"/>
              </a:rPr>
              <a:t>Mobile Adverti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hape 76"/>
          <p:cNvSpPr/>
          <p:nvPr/>
        </p:nvSpPr>
        <p:spPr>
          <a:xfrm>
            <a:off x="6981840" y="0"/>
            <a:ext cx="1706400" cy="206280"/>
          </a:xfrm>
          <a:prstGeom prst="rect">
            <a:avLst/>
          </a:prstGeom>
          <a:solidFill>
            <a:srgbClr val="50b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Shape 75"/>
          <p:cNvSpPr/>
          <p:nvPr/>
        </p:nvSpPr>
        <p:spPr>
          <a:xfrm>
            <a:off x="6118200" y="21096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ach people on the go with </a:t>
            </a:r>
            <a:r>
              <a:rPr b="1" lang="ga-IE" sz="1000" spc="-1" strike="noStrike">
                <a:solidFill>
                  <a:srgbClr val="50bf32"/>
                </a:solidFill>
                <a:latin typeface="Helvetica Neue"/>
                <a:ea typeface="Helvetica Neue"/>
              </a:rPr>
              <a:t>Mobile Adverti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hape 76"/>
          <p:cNvSpPr/>
          <p:nvPr/>
        </p:nvSpPr>
        <p:spPr>
          <a:xfrm>
            <a:off x="6981840" y="0"/>
            <a:ext cx="1706400" cy="206280"/>
          </a:xfrm>
          <a:prstGeom prst="rect">
            <a:avLst/>
          </a:prstGeom>
          <a:solidFill>
            <a:srgbClr val="50b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Shape 75"/>
          <p:cNvSpPr/>
          <p:nvPr/>
        </p:nvSpPr>
        <p:spPr>
          <a:xfrm>
            <a:off x="6118200" y="21096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ach people on the go with </a:t>
            </a:r>
            <a:r>
              <a:rPr b="1" lang="ga-IE" sz="1000" spc="-1" strike="noStrike">
                <a:solidFill>
                  <a:srgbClr val="50bf32"/>
                </a:solidFill>
                <a:latin typeface="Helvetica Neue"/>
                <a:ea typeface="Helvetica Neue"/>
              </a:rPr>
              <a:t>Mobile Adverti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hape 76"/>
          <p:cNvSpPr/>
          <p:nvPr/>
        </p:nvSpPr>
        <p:spPr>
          <a:xfrm>
            <a:off x="6981840" y="0"/>
            <a:ext cx="1706400" cy="206280"/>
          </a:xfrm>
          <a:prstGeom prst="rect">
            <a:avLst/>
          </a:prstGeom>
          <a:solidFill>
            <a:srgbClr val="50b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hape 10"/>
          <p:cNvSpPr/>
          <p:nvPr/>
        </p:nvSpPr>
        <p:spPr>
          <a:xfrm>
            <a:off x="6118200" y="21096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ach people on the go wit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000" spc="-1" strike="noStrike">
                <a:solidFill>
                  <a:srgbClr val="376092"/>
                </a:solidFill>
                <a:latin typeface="Helvetica Neue"/>
                <a:ea typeface="Helvetica Neue"/>
              </a:rPr>
              <a:t>Mobile Adverti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hape 11"/>
          <p:cNvSpPr/>
          <p:nvPr/>
        </p:nvSpPr>
        <p:spPr>
          <a:xfrm>
            <a:off x="6981840" y="0"/>
            <a:ext cx="1706400" cy="206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business-catalyst-seo.png"/>
          <p:cNvPicPr/>
          <p:nvPr/>
        </p:nvPicPr>
        <p:blipFill>
          <a:blip r:embed="rId2"/>
          <a:stretch/>
        </p:blipFill>
        <p:spPr>
          <a:xfrm>
            <a:off x="455760" y="5878440"/>
            <a:ext cx="1992240" cy="5018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hape 15"/>
          <p:cNvSpPr/>
          <p:nvPr/>
        </p:nvSpPr>
        <p:spPr>
          <a:xfrm>
            <a:off x="6118200" y="21096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ach people on the go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1000" spc="-1" strike="noStrike">
                <a:solidFill>
                  <a:srgbClr val="376092"/>
                </a:solidFill>
                <a:latin typeface="Helvetica Neue"/>
                <a:ea typeface="Helvetica Neue"/>
              </a:rPr>
              <a:t> </a:t>
            </a:r>
            <a:r>
              <a:rPr b="1" lang="ga-IE" sz="1000" spc="-1" strike="noStrike">
                <a:solidFill>
                  <a:srgbClr val="376092"/>
                </a:solidFill>
                <a:latin typeface="Helvetica Neue"/>
                <a:ea typeface="Helvetica Neue"/>
              </a:rPr>
              <a:t>Mobile Advertis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hape 16"/>
          <p:cNvSpPr/>
          <p:nvPr/>
        </p:nvSpPr>
        <p:spPr>
          <a:xfrm>
            <a:off x="6981840" y="0"/>
            <a:ext cx="1706400" cy="2062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Shape 148"/>
          <p:cNvSpPr/>
          <p:nvPr/>
        </p:nvSpPr>
        <p:spPr>
          <a:xfrm>
            <a:off x="446040" y="933480"/>
            <a:ext cx="795024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62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ach people on </a:t>
            </a:r>
            <a:br>
              <a:rPr sz="6200"/>
            </a:br>
            <a:r>
              <a:rPr b="1" lang="ga-IE" sz="62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e go with </a:t>
            </a:r>
            <a:br>
              <a:rPr sz="6200"/>
            </a:br>
            <a:r>
              <a:rPr b="1" lang="ga-IE" sz="62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Mobile Advertising.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Picture 4" descr="business-catalyst-seo.png"/>
          <p:cNvPicPr/>
          <p:nvPr/>
        </p:nvPicPr>
        <p:blipFill>
          <a:blip r:embed="rId1"/>
          <a:stretch/>
        </p:blipFill>
        <p:spPr>
          <a:xfrm>
            <a:off x="455760" y="5776920"/>
            <a:ext cx="293364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72680" y="1025280"/>
            <a:ext cx="8172360" cy="16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hat are Mobile A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hape 165"/>
          <p:cNvSpPr/>
          <p:nvPr/>
        </p:nvSpPr>
        <p:spPr>
          <a:xfrm>
            <a:off x="479520" y="2378160"/>
            <a:ext cx="38242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Mobile ads are shown to people searching and browsing the internet on smartph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ey have the potential to reach people whereever they access the internet on their 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hape 166"/>
          <p:cNvSpPr/>
          <p:nvPr/>
        </p:nvSpPr>
        <p:spPr>
          <a:xfrm>
            <a:off x="5164200" y="6148440"/>
            <a:ext cx="552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hape 167"/>
          <p:cNvSpPr/>
          <p:nvPr/>
        </p:nvSpPr>
        <p:spPr>
          <a:xfrm>
            <a:off x="5850000" y="6146640"/>
            <a:ext cx="5522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hape 168"/>
          <p:cNvSpPr/>
          <p:nvPr/>
        </p:nvSpPr>
        <p:spPr>
          <a:xfrm>
            <a:off x="6402240" y="6146640"/>
            <a:ext cx="7304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hape 169"/>
          <p:cNvSpPr/>
          <p:nvPr/>
        </p:nvSpPr>
        <p:spPr>
          <a:xfrm>
            <a:off x="7180200" y="6146640"/>
            <a:ext cx="6699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Meas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hape 170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1" name="Shape 171"/>
          <p:cNvCxnSpPr/>
          <p:nvPr/>
        </p:nvCxnSpPr>
        <p:spPr>
          <a:xfrm>
            <a:off x="5433840" y="6076440"/>
            <a:ext cx="2772720" cy="108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972" name="Shape 172"/>
          <p:cNvSpPr/>
          <p:nvPr/>
        </p:nvSpPr>
        <p:spPr>
          <a:xfrm>
            <a:off x="6089760" y="6040440"/>
            <a:ext cx="730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hape 173"/>
          <p:cNvSpPr/>
          <p:nvPr/>
        </p:nvSpPr>
        <p:spPr>
          <a:xfrm>
            <a:off x="6778800" y="6040440"/>
            <a:ext cx="7272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Shape 174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Shape 175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Shape 176"/>
          <p:cNvSpPr/>
          <p:nvPr/>
        </p:nvSpPr>
        <p:spPr>
          <a:xfrm>
            <a:off x="540072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b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7" name="Shape 177"/>
          <p:cNvCxnSpPr/>
          <p:nvPr/>
        </p:nvCxnSpPr>
        <p:spPr>
          <a:xfrm>
            <a:off x="5460480" y="6073560"/>
            <a:ext cx="359640" cy="1080"/>
          </a:xfrm>
          <a:prstGeom prst="straightConnector1">
            <a:avLst/>
          </a:prstGeom>
          <a:ln w="34920">
            <a:solidFill>
              <a:srgbClr val="50bf32"/>
            </a:solidFill>
            <a:miter/>
            <a:tailEnd len="med" type="triangle" w="med"/>
          </a:ln>
        </p:spPr>
      </p:cxnSp>
      <p:sp>
        <p:nvSpPr>
          <p:cNvPr id="978" name="Shape 178"/>
          <p:cNvSpPr/>
          <p:nvPr/>
        </p:nvSpPr>
        <p:spPr>
          <a:xfrm>
            <a:off x="5284800" y="2392200"/>
            <a:ext cx="258300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72680" y="1025280"/>
            <a:ext cx="8172360" cy="35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hy use Mobile A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Shape 184"/>
          <p:cNvSpPr/>
          <p:nvPr/>
        </p:nvSpPr>
        <p:spPr>
          <a:xfrm>
            <a:off x="511200" y="2378160"/>
            <a:ext cx="804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ach a growing segment of the search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ach people in the real world with location targeting </a:t>
            </a:r>
            <a:br>
              <a:rPr sz="1400"/>
            </a:br>
            <a:r>
              <a:rPr b="0" lang="ga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– show people ads relevant to ‘where’ they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Up to 30%* of searches have local intent </a:t>
            </a:r>
            <a:br>
              <a:rPr sz="1400"/>
            </a:br>
            <a:r>
              <a:rPr b="0" lang="ga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– increase footfall to bricks and mortar busin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hape 185"/>
          <p:cNvSpPr/>
          <p:nvPr/>
        </p:nvSpPr>
        <p:spPr>
          <a:xfrm>
            <a:off x="6181560" y="3139920"/>
            <a:ext cx="817416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6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30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Shape 186"/>
          <p:cNvSpPr/>
          <p:nvPr/>
        </p:nvSpPr>
        <p:spPr>
          <a:xfrm>
            <a:off x="517680" y="6504120"/>
            <a:ext cx="804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8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*Source: Google Internal Data. Last updated: July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Shape 187"/>
          <p:cNvSpPr/>
          <p:nvPr/>
        </p:nvSpPr>
        <p:spPr>
          <a:xfrm>
            <a:off x="5164200" y="6148440"/>
            <a:ext cx="552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Shape 188"/>
          <p:cNvSpPr/>
          <p:nvPr/>
        </p:nvSpPr>
        <p:spPr>
          <a:xfrm>
            <a:off x="5850000" y="6146640"/>
            <a:ext cx="5522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hape 189"/>
          <p:cNvSpPr/>
          <p:nvPr/>
        </p:nvSpPr>
        <p:spPr>
          <a:xfrm>
            <a:off x="6402240" y="6146640"/>
            <a:ext cx="7304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Shape 190"/>
          <p:cNvSpPr/>
          <p:nvPr/>
        </p:nvSpPr>
        <p:spPr>
          <a:xfrm>
            <a:off x="7180200" y="6146640"/>
            <a:ext cx="6699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Meas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Shape 191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8" name="Shape 192"/>
          <p:cNvCxnSpPr/>
          <p:nvPr/>
        </p:nvCxnSpPr>
        <p:spPr>
          <a:xfrm>
            <a:off x="5433840" y="6076440"/>
            <a:ext cx="2772720" cy="108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989" name="Shape 193"/>
          <p:cNvSpPr/>
          <p:nvPr/>
        </p:nvSpPr>
        <p:spPr>
          <a:xfrm>
            <a:off x="6778800" y="6040440"/>
            <a:ext cx="7272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hape 194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Shape 195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Shape 196"/>
          <p:cNvSpPr/>
          <p:nvPr/>
        </p:nvSpPr>
        <p:spPr>
          <a:xfrm>
            <a:off x="540072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b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3" name="Shape 197"/>
          <p:cNvCxnSpPr/>
          <p:nvPr/>
        </p:nvCxnSpPr>
        <p:spPr>
          <a:xfrm>
            <a:off x="5460480" y="6073560"/>
            <a:ext cx="1081800" cy="1080"/>
          </a:xfrm>
          <a:prstGeom prst="straightConnector1">
            <a:avLst/>
          </a:prstGeom>
          <a:ln w="34920">
            <a:solidFill>
              <a:srgbClr val="50bf32"/>
            </a:solidFill>
            <a:miter/>
            <a:tailEnd len="med" type="triangle" w="med"/>
          </a:ln>
        </p:spPr>
      </p:cxnSp>
      <p:sp>
        <p:nvSpPr>
          <p:cNvPr id="994" name="Shape 198"/>
          <p:cNvSpPr/>
          <p:nvPr/>
        </p:nvSpPr>
        <p:spPr>
          <a:xfrm>
            <a:off x="609120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b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hape 199"/>
          <p:cNvSpPr/>
          <p:nvPr/>
        </p:nvSpPr>
        <p:spPr>
          <a:xfrm>
            <a:off x="6105600" y="4059360"/>
            <a:ext cx="1828800" cy="1377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Shape 204"/>
          <p:cNvSpPr/>
          <p:nvPr/>
        </p:nvSpPr>
        <p:spPr>
          <a:xfrm>
            <a:off x="584280" y="2392200"/>
            <a:ext cx="74404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More and more people are buying </a:t>
            </a:r>
            <a:br>
              <a:rPr sz="1400"/>
            </a:br>
            <a:r>
              <a:rPr b="0" lang="ga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smartphones and tabl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hape 205"/>
          <p:cNvSpPr/>
          <p:nvPr/>
        </p:nvSpPr>
        <p:spPr>
          <a:xfrm>
            <a:off x="1827360" y="3514680"/>
            <a:ext cx="49543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ey are searching for your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hape 206"/>
          <p:cNvSpPr/>
          <p:nvPr/>
        </p:nvSpPr>
        <p:spPr>
          <a:xfrm>
            <a:off x="-31680" y="4430880"/>
            <a:ext cx="867240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Be sure that you are there to meet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hape 207"/>
          <p:cNvSpPr/>
          <p:nvPr/>
        </p:nvSpPr>
        <p:spPr>
          <a:xfrm>
            <a:off x="4121280" y="2973240"/>
            <a:ext cx="366480" cy="447840"/>
          </a:xfrm>
          <a:prstGeom prst="downArrow">
            <a:avLst>
              <a:gd name="adj1" fmla="val 50000"/>
              <a:gd name="adj2" fmla="val 50255"/>
            </a:avLst>
          </a:prstGeom>
          <a:solidFill>
            <a:srgbClr val="50b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hape 208"/>
          <p:cNvSpPr/>
          <p:nvPr/>
        </p:nvSpPr>
        <p:spPr>
          <a:xfrm>
            <a:off x="4121280" y="3906720"/>
            <a:ext cx="366480" cy="446040"/>
          </a:xfrm>
          <a:prstGeom prst="downArrow">
            <a:avLst>
              <a:gd name="adj1" fmla="val 50000"/>
              <a:gd name="adj2" fmla="val 50053"/>
            </a:avLst>
          </a:prstGeom>
          <a:solidFill>
            <a:srgbClr val="50bf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Shape 209"/>
          <p:cNvSpPr/>
          <p:nvPr/>
        </p:nvSpPr>
        <p:spPr>
          <a:xfrm>
            <a:off x="5164200" y="6148440"/>
            <a:ext cx="552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Shape 210"/>
          <p:cNvSpPr/>
          <p:nvPr/>
        </p:nvSpPr>
        <p:spPr>
          <a:xfrm>
            <a:off x="5850000" y="6146640"/>
            <a:ext cx="5522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Shape 211"/>
          <p:cNvSpPr/>
          <p:nvPr/>
        </p:nvSpPr>
        <p:spPr>
          <a:xfrm>
            <a:off x="6402240" y="6146640"/>
            <a:ext cx="7304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Shape 212"/>
          <p:cNvSpPr/>
          <p:nvPr/>
        </p:nvSpPr>
        <p:spPr>
          <a:xfrm>
            <a:off x="7180200" y="6146640"/>
            <a:ext cx="6699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Meas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Shape 213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6" name="Shape 214"/>
          <p:cNvCxnSpPr/>
          <p:nvPr/>
        </p:nvCxnSpPr>
        <p:spPr>
          <a:xfrm>
            <a:off x="5433840" y="6076440"/>
            <a:ext cx="2772720" cy="108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1007" name="Shape 215"/>
          <p:cNvSpPr/>
          <p:nvPr/>
        </p:nvSpPr>
        <p:spPr>
          <a:xfrm>
            <a:off x="6778800" y="6040440"/>
            <a:ext cx="7272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Shape 216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hape 217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hape 218"/>
          <p:cNvSpPr/>
          <p:nvPr/>
        </p:nvSpPr>
        <p:spPr>
          <a:xfrm>
            <a:off x="540072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b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1" name="Shape 219"/>
          <p:cNvCxnSpPr/>
          <p:nvPr/>
        </p:nvCxnSpPr>
        <p:spPr>
          <a:xfrm>
            <a:off x="5460480" y="6073560"/>
            <a:ext cx="1081800" cy="1080"/>
          </a:xfrm>
          <a:prstGeom prst="straightConnector1">
            <a:avLst/>
          </a:prstGeom>
          <a:ln w="34920">
            <a:solidFill>
              <a:srgbClr val="50bf32"/>
            </a:solidFill>
            <a:miter/>
            <a:tailEnd len="med" type="triangle" w="med"/>
          </a:ln>
        </p:spPr>
      </p:cxnSp>
      <p:sp>
        <p:nvSpPr>
          <p:cNvPr id="1012" name="Shape 220"/>
          <p:cNvSpPr/>
          <p:nvPr/>
        </p:nvSpPr>
        <p:spPr>
          <a:xfrm>
            <a:off x="609120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b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Shape 221"/>
          <p:cNvSpPr/>
          <p:nvPr/>
        </p:nvSpPr>
        <p:spPr>
          <a:xfrm>
            <a:off x="473040" y="1025640"/>
            <a:ext cx="81723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hy use Mobile A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73040" y="1025280"/>
            <a:ext cx="8437680" cy="118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hat are the benefits </a:t>
            </a:r>
            <a:br>
              <a:rPr sz="3600"/>
            </a:br>
            <a:r>
              <a:rPr b="1" lang="ga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of using Mobile A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hape 227"/>
          <p:cNvSpPr/>
          <p:nvPr/>
        </p:nvSpPr>
        <p:spPr>
          <a:xfrm>
            <a:off x="517680" y="2379600"/>
            <a:ext cx="708480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buClr>
                <a:srgbClr val="0000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After searching with a smartphone, 9 out of 10* people take some form of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After researching on a smartphone, 77%** of people contacted a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As a result of using a smartphone, 74%*** made a purc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ey offer a range of mobile extensions: sitelinks to drive people deeper into your site, ads for specific products, click-to-call ads, location extensions, offer ads to drive people to st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Shape 228"/>
          <p:cNvSpPr/>
          <p:nvPr/>
        </p:nvSpPr>
        <p:spPr>
          <a:xfrm>
            <a:off x="517680" y="6494400"/>
            <a:ext cx="8042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8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*Source: Source:  OTX Smartphone User Research, April 2011. ** Source: (1) Google internal data; (2) OTX Smartphone User Research, April 2011 . </a:t>
            </a:r>
            <a:br>
              <a:rPr sz="800"/>
            </a:br>
            <a:r>
              <a:rPr b="0" lang="ga-IE" sz="8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*** Source: OTX MediaCT Survey, Q4 2010, 5,013 US online respond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hape 229"/>
          <p:cNvSpPr/>
          <p:nvPr/>
        </p:nvSpPr>
        <p:spPr>
          <a:xfrm>
            <a:off x="5164200" y="6148440"/>
            <a:ext cx="552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hape 230"/>
          <p:cNvSpPr/>
          <p:nvPr/>
        </p:nvSpPr>
        <p:spPr>
          <a:xfrm>
            <a:off x="5850000" y="6146640"/>
            <a:ext cx="5522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Shape 231"/>
          <p:cNvSpPr/>
          <p:nvPr/>
        </p:nvSpPr>
        <p:spPr>
          <a:xfrm>
            <a:off x="6402240" y="6146640"/>
            <a:ext cx="730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Shape 232"/>
          <p:cNvSpPr/>
          <p:nvPr/>
        </p:nvSpPr>
        <p:spPr>
          <a:xfrm>
            <a:off x="7180200" y="6146640"/>
            <a:ext cx="6699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Meas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hape 233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2" name="Shape 234"/>
          <p:cNvCxnSpPr/>
          <p:nvPr/>
        </p:nvCxnSpPr>
        <p:spPr>
          <a:xfrm>
            <a:off x="5433840" y="6076440"/>
            <a:ext cx="2772720" cy="108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1023" name="Shape 235"/>
          <p:cNvSpPr/>
          <p:nvPr/>
        </p:nvSpPr>
        <p:spPr>
          <a:xfrm>
            <a:off x="6778800" y="6040440"/>
            <a:ext cx="72720" cy="73080"/>
          </a:xfrm>
          <a:prstGeom prst="ellipse">
            <a:avLst/>
          </a:prstGeom>
          <a:solidFill>
            <a:srgbClr val="595959"/>
          </a:solidFill>
          <a:ln w="9360">
            <a:solidFill>
              <a:srgbClr val="50b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Shape 236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hape 237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hape 238"/>
          <p:cNvSpPr/>
          <p:nvPr/>
        </p:nvSpPr>
        <p:spPr>
          <a:xfrm>
            <a:off x="540072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b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7" name="Shape 239"/>
          <p:cNvCxnSpPr/>
          <p:nvPr/>
        </p:nvCxnSpPr>
        <p:spPr>
          <a:xfrm>
            <a:off x="5460480" y="6073560"/>
            <a:ext cx="1801080" cy="1080"/>
          </a:xfrm>
          <a:prstGeom prst="straightConnector1">
            <a:avLst/>
          </a:prstGeom>
          <a:ln w="34920">
            <a:solidFill>
              <a:srgbClr val="50bf32"/>
            </a:solidFill>
            <a:miter/>
            <a:tailEnd len="med" type="triangle" w="med"/>
          </a:ln>
        </p:spPr>
      </p:cxnSp>
      <p:sp>
        <p:nvSpPr>
          <p:cNvPr id="1028" name="Shape 240"/>
          <p:cNvSpPr/>
          <p:nvPr/>
        </p:nvSpPr>
        <p:spPr>
          <a:xfrm>
            <a:off x="609120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b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Shape 241"/>
          <p:cNvSpPr/>
          <p:nvPr/>
        </p:nvSpPr>
        <p:spPr>
          <a:xfrm>
            <a:off x="678024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b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73040" y="1050840"/>
            <a:ext cx="843768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Measuring the benefit </a:t>
            </a:r>
            <a:br>
              <a:rPr sz="3600"/>
            </a:br>
            <a:r>
              <a:rPr b="1" lang="ga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of Mobile A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hape 247"/>
          <p:cNvSpPr/>
          <p:nvPr/>
        </p:nvSpPr>
        <p:spPr>
          <a:xfrm>
            <a:off x="477720" y="2378160"/>
            <a:ext cx="604224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ere are lots of different ways that you can use to measure mobile ad effectiveness depending on the chosen ad ext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For example these include - sales, sign-ups, number of calls, length of calls, conversions, downlo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Shape 248"/>
          <p:cNvSpPr/>
          <p:nvPr/>
        </p:nvSpPr>
        <p:spPr>
          <a:xfrm>
            <a:off x="5164200" y="6148440"/>
            <a:ext cx="552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hape 249"/>
          <p:cNvSpPr/>
          <p:nvPr/>
        </p:nvSpPr>
        <p:spPr>
          <a:xfrm>
            <a:off x="5850000" y="6146640"/>
            <a:ext cx="5522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hape 250"/>
          <p:cNvSpPr/>
          <p:nvPr/>
        </p:nvSpPr>
        <p:spPr>
          <a:xfrm>
            <a:off x="6402240" y="6146640"/>
            <a:ext cx="730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hape 251"/>
          <p:cNvSpPr/>
          <p:nvPr/>
        </p:nvSpPr>
        <p:spPr>
          <a:xfrm>
            <a:off x="7180200" y="6146640"/>
            <a:ext cx="6699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Meas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Shape 252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7" name="Shape 253"/>
          <p:cNvCxnSpPr/>
          <p:nvPr/>
        </p:nvCxnSpPr>
        <p:spPr>
          <a:xfrm>
            <a:off x="5433840" y="6076440"/>
            <a:ext cx="2772720" cy="108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1038" name="Shape 254"/>
          <p:cNvSpPr/>
          <p:nvPr/>
        </p:nvSpPr>
        <p:spPr>
          <a:xfrm>
            <a:off x="6778800" y="6040440"/>
            <a:ext cx="72720" cy="73080"/>
          </a:xfrm>
          <a:prstGeom prst="ellipse">
            <a:avLst/>
          </a:prstGeom>
          <a:solidFill>
            <a:srgbClr val="595959"/>
          </a:solidFill>
          <a:ln w="9360">
            <a:solidFill>
              <a:srgbClr val="50b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hape 255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9360">
            <a:solidFill>
              <a:srgbClr val="50b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Shape 256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hape 257"/>
          <p:cNvSpPr/>
          <p:nvPr/>
        </p:nvSpPr>
        <p:spPr>
          <a:xfrm>
            <a:off x="540072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b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2" name="Shape 258"/>
          <p:cNvCxnSpPr/>
          <p:nvPr/>
        </p:nvCxnSpPr>
        <p:spPr>
          <a:xfrm>
            <a:off x="5460480" y="6073560"/>
            <a:ext cx="2521800" cy="1080"/>
          </a:xfrm>
          <a:prstGeom prst="straightConnector1">
            <a:avLst/>
          </a:prstGeom>
          <a:ln w="34920">
            <a:solidFill>
              <a:srgbClr val="50bf32"/>
            </a:solidFill>
            <a:miter/>
            <a:tailEnd len="med" type="triangle" w="med"/>
          </a:ln>
        </p:spPr>
      </p:cxnSp>
      <p:sp>
        <p:nvSpPr>
          <p:cNvPr id="1043" name="Shape 259"/>
          <p:cNvSpPr/>
          <p:nvPr/>
        </p:nvSpPr>
        <p:spPr>
          <a:xfrm>
            <a:off x="609120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b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hape 260"/>
          <p:cNvSpPr/>
          <p:nvPr/>
        </p:nvSpPr>
        <p:spPr>
          <a:xfrm>
            <a:off x="678024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b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Shape 261"/>
          <p:cNvSpPr/>
          <p:nvPr/>
        </p:nvSpPr>
        <p:spPr>
          <a:xfrm>
            <a:off x="747540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b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Shape 262"/>
          <p:cNvSpPr/>
          <p:nvPr/>
        </p:nvSpPr>
        <p:spPr>
          <a:xfrm>
            <a:off x="5286240" y="3559320"/>
            <a:ext cx="2563920" cy="137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47" name="Shape 268"/>
          <p:cNvCxnSpPr/>
          <p:nvPr/>
        </p:nvCxnSpPr>
        <p:spPr>
          <a:xfrm>
            <a:off x="5443560" y="6076800"/>
            <a:ext cx="2737080" cy="5760"/>
          </a:xfrm>
          <a:prstGeom prst="straightConnector1">
            <a:avLst/>
          </a:prstGeom>
          <a:ln w="34920">
            <a:solidFill>
              <a:srgbClr val="50bf32"/>
            </a:solidFill>
            <a:miter/>
          </a:ln>
        </p:spPr>
      </p:cxn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76280" y="1045800"/>
            <a:ext cx="8437680" cy="14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Conclu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hape 270"/>
          <p:cNvSpPr/>
          <p:nvPr/>
        </p:nvSpPr>
        <p:spPr>
          <a:xfrm>
            <a:off x="517680" y="2352600"/>
            <a:ext cx="567504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Mobile ads are an important part of online advertising strategy </a:t>
            </a:r>
            <a:br>
              <a:rPr sz="1400"/>
            </a:br>
            <a:r>
              <a:rPr b="0" lang="ga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– it’s the way we communicate to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ey are relevant, local and targeted </a:t>
            </a:r>
            <a:br>
              <a:rPr sz="1400"/>
            </a:br>
            <a:r>
              <a:rPr b="0" lang="ga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– they help to reach your customers no matter where they 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Strong calls to action important so that people know what you want them to 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Highly measureable performance </a:t>
            </a:r>
            <a:br>
              <a:rPr sz="1400"/>
            </a:br>
            <a:r>
              <a:rPr b="0" lang="ga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– helping you to see how well it’s wo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Shape 271"/>
          <p:cNvSpPr/>
          <p:nvPr/>
        </p:nvSpPr>
        <p:spPr>
          <a:xfrm>
            <a:off x="5164200" y="6148440"/>
            <a:ext cx="552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Shape 272"/>
          <p:cNvSpPr/>
          <p:nvPr/>
        </p:nvSpPr>
        <p:spPr>
          <a:xfrm>
            <a:off x="5164200" y="6148440"/>
            <a:ext cx="552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Shape 273"/>
          <p:cNvSpPr/>
          <p:nvPr/>
        </p:nvSpPr>
        <p:spPr>
          <a:xfrm>
            <a:off x="5850000" y="6146640"/>
            <a:ext cx="5522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Shape 274"/>
          <p:cNvSpPr/>
          <p:nvPr/>
        </p:nvSpPr>
        <p:spPr>
          <a:xfrm>
            <a:off x="6402240" y="6146640"/>
            <a:ext cx="7304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hape 275"/>
          <p:cNvSpPr/>
          <p:nvPr/>
        </p:nvSpPr>
        <p:spPr>
          <a:xfrm>
            <a:off x="7180200" y="6146640"/>
            <a:ext cx="6699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Meas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Shape 276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Shape 277"/>
          <p:cNvSpPr/>
          <p:nvPr/>
        </p:nvSpPr>
        <p:spPr>
          <a:xfrm>
            <a:off x="6778800" y="6040440"/>
            <a:ext cx="72720" cy="73080"/>
          </a:xfrm>
          <a:prstGeom prst="ellipse">
            <a:avLst/>
          </a:prstGeom>
          <a:solidFill>
            <a:srgbClr val="595959"/>
          </a:solidFill>
          <a:ln w="9360">
            <a:solidFill>
              <a:srgbClr val="50b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Shape 278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9360">
            <a:solidFill>
              <a:srgbClr val="50b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Shape 279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9360">
            <a:solidFill>
              <a:srgbClr val="50b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hape 280"/>
          <p:cNvSpPr/>
          <p:nvPr/>
        </p:nvSpPr>
        <p:spPr>
          <a:xfrm>
            <a:off x="540072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b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Shape 281"/>
          <p:cNvSpPr/>
          <p:nvPr/>
        </p:nvSpPr>
        <p:spPr>
          <a:xfrm>
            <a:off x="609120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b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hape 282"/>
          <p:cNvSpPr/>
          <p:nvPr/>
        </p:nvSpPr>
        <p:spPr>
          <a:xfrm>
            <a:off x="678024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b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Shape 283"/>
          <p:cNvSpPr/>
          <p:nvPr/>
        </p:nvSpPr>
        <p:spPr>
          <a:xfrm>
            <a:off x="747540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b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Shape 284"/>
          <p:cNvSpPr/>
          <p:nvPr/>
        </p:nvSpPr>
        <p:spPr>
          <a:xfrm>
            <a:off x="8166240" y="6040440"/>
            <a:ext cx="7272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0b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Shape 285"/>
          <p:cNvSpPr/>
          <p:nvPr/>
        </p:nvSpPr>
        <p:spPr>
          <a:xfrm>
            <a:off x="6661080" y="3965400"/>
            <a:ext cx="1131840" cy="992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73040" y="999720"/>
            <a:ext cx="8183520" cy="18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a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Thank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Shape 291"/>
          <p:cNvSpPr/>
          <p:nvPr/>
        </p:nvSpPr>
        <p:spPr>
          <a:xfrm>
            <a:off x="503280" y="2297160"/>
            <a:ext cx="580392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f you have any queries or would like help setting up Mobile Advertising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Business Catalyst S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ww.businesscatalystseo.com.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seo@businesscatalystseo.com.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therine Anderson</cp:lastModifiedBy>
  <dcterms:modified xsi:type="dcterms:W3CDTF">2013-01-28T10:56:29Z</dcterms:modified>
  <cp:revision>4</cp:revision>
  <dc:subject/>
  <dc:title>PowerPoint Presentation</dc:title>
</cp:coreProperties>
</file>